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42.jpeg" ContentType="image/jpeg"/>
  <Override PartName="/ppt/media/image41.png" ContentType="image/png"/>
  <Override PartName="/ppt/media/image11.png" ContentType="image/png"/>
  <Override PartName="/ppt/media/image46.png" ContentType="image/png"/>
  <Override PartName="/ppt/media/image30.jpeg" ContentType="image/jpeg"/>
  <Override PartName="/ppt/media/image39.png" ContentType="image/png"/>
  <Override PartName="/ppt/media/image9.png" ContentType="image/png"/>
  <Override PartName="/ppt/media/image38.jpeg" ContentType="image/jpeg"/>
  <Override PartName="/ppt/media/image33.jpeg" ContentType="image/jpeg"/>
  <Override PartName="/ppt/media/image45.png" ContentType="image/png"/>
  <Override PartName="/ppt/media/image27.jpeg" ContentType="image/jpeg"/>
  <Override PartName="/ppt/media/image37.jpeg" ContentType="image/jpeg"/>
  <Override PartName="/ppt/media/image13.png" ContentType="image/png"/>
  <Override PartName="/ppt/media/image40.png" ContentType="image/png"/>
  <Override PartName="/ppt/media/image31.jpeg" ContentType="image/jpeg"/>
  <Override PartName="/ppt/media/image44.png" ContentType="image/png"/>
  <Override PartName="/ppt/media/image12.png" ContentType="image/png"/>
  <Override PartName="/ppt/media/image34.jpeg" ContentType="image/jpeg"/>
  <Override PartName="/ppt/media/image7.png" ContentType="image/png"/>
  <Override PartName="/ppt/media/image2.png" ContentType="image/png"/>
  <Override PartName="/ppt/media/image32.png" ContentType="image/png"/>
  <Override PartName="/ppt/media/image8.png" ContentType="image/png"/>
  <Override PartName="/ppt/media/image10.png" ContentType="image/png"/>
  <Override PartName="/ppt/media/image47.png" ContentType="image/png"/>
  <Override PartName="/ppt/media/image35.jpeg" ContentType="image/jpeg"/>
  <Override PartName="/ppt/media/image29.jpeg" ContentType="image/jpeg"/>
  <Override PartName="/ppt/media/image5.png" ContentType="image/png"/>
  <Override PartName="/ppt/media/image43.jpeg" ContentType="image/jpeg"/>
  <Override PartName="/ppt/media/image4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3C7C-F1A2-4BA8-96B8-0031321DB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A0D-C8A5-4365-98B4-4045F5919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BA67-DF83-43CC-B9CB-5BA7E431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F02D-87E1-45EC-B41F-DBDEADD6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C1E2-5A2C-4CD0-A2DC-BE2485E9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7474-C05B-4D59-BF1B-B504C500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83B1-6CF8-443A-8FF6-98F4D47A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75F-7B90-4EDB-8A32-DF0883A5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467F-19FA-4DFF-9558-A822FD95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FFF-4B63-4F22-B4EB-2893BEA7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4ED7-BC84-4DE1-83D0-BFDAA8B0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46AE-C1E8-476D-A688-2E26C878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5960" indent="-22716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FBA9-5622-42B5-80E6-6AF6F07668E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6.jpeg"/><Relationship Id="rId9" Type="http://schemas.openxmlformats.org/officeDocument/2006/relationships/image" Target="../media/image36.jpeg"/><Relationship Id="rId10" Type="http://schemas.openxmlformats.org/officeDocument/2006/relationships/image" Target="../media/image36.jpeg"/><Relationship Id="rId11" Type="http://schemas.openxmlformats.org/officeDocument/2006/relationships/image" Target="../media/image37.jpeg"/><Relationship Id="rId12" Type="http://schemas.openxmlformats.org/officeDocument/2006/relationships/image" Target="../media/image38.jpeg"/><Relationship Id="rId13" Type="http://schemas.openxmlformats.org/officeDocument/2006/relationships/image" Target="../media/image9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9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jpeg"/><Relationship Id="rId11" Type="http://schemas.openxmlformats.org/officeDocument/2006/relationships/image" Target="../media/image42.jpeg"/><Relationship Id="rId1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43.jpe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44.png"/><Relationship Id="rId9" Type="http://schemas.openxmlformats.org/officeDocument/2006/relationships/image" Target="../media/image45.png"/><Relationship Id="rId10" Type="http://schemas.openxmlformats.org/officeDocument/2006/relationships/image" Target="../media/image46.png"/><Relationship Id="rId11" Type="http://schemas.openxmlformats.org/officeDocument/2006/relationships/image" Target="../media/image47.png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3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0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9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6.jpe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3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22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image" Target="../media/image10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25.png"/><Relationship Id="rId20" Type="http://schemas.openxmlformats.org/officeDocument/2006/relationships/image" Target="../media/image25.png"/><Relationship Id="rId2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jpeg"/><Relationship Id="rId10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29.jpeg"/><Relationship Id="rId8" Type="http://schemas.openxmlformats.org/officeDocument/2006/relationships/image" Target="../media/image30.jpeg"/><Relationship Id="rId9" Type="http://schemas.openxmlformats.org/officeDocument/2006/relationships/image" Target="../media/image31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390840"/>
            <a:ext cx="9150480" cy="3465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b8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60440" y="2492280"/>
            <a:ext cx="64483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돋움"/>
              </a:rPr>
              <a:t>SAMSUNG CAMERA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돋움"/>
              <a:ea typeface="돋움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7700" t="20011" r="9225" b="16565"/>
          <a:stretch/>
        </p:blipFill>
        <p:spPr>
          <a:xfrm>
            <a:off x="122400" y="117360"/>
            <a:ext cx="1064880" cy="406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13440" y="3451320"/>
            <a:ext cx="2527920" cy="5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ko-KR" sz="3200" spc="-1" strike="noStrike">
                <a:solidFill>
                  <a:srgbClr val="336699"/>
                </a:solidFill>
                <a:latin typeface="HY견고딕"/>
                <a:ea typeface="HY견고딕"/>
              </a:rPr>
              <a:t>Digimax L8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560520" y="1378080"/>
            <a:ext cx="645948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견고딕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A / S / M mo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굴림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1 type Scene mo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11280" y="1554120"/>
            <a:ext cx="260280" cy="249120"/>
          </a:xfrm>
          <a:prstGeom prst="rect">
            <a:avLst/>
          </a:prstGeom>
          <a:ln w="0">
            <a:noFill/>
          </a:ln>
        </p:spPr>
      </p:pic>
      <p:grpSp>
        <p:nvGrpSpPr>
          <p:cNvPr id="275" name=""/>
          <p:cNvGrpSpPr/>
          <p:nvPr/>
        </p:nvGrpSpPr>
        <p:grpSpPr>
          <a:xfrm>
            <a:off x="4643280" y="2649600"/>
            <a:ext cx="4319640" cy="863640"/>
            <a:chOff x="4643280" y="2649600"/>
            <a:chExt cx="4319640" cy="863640"/>
          </a:xfrm>
        </p:grpSpPr>
        <p:sp>
          <p:nvSpPr>
            <p:cNvPr id="276" name=""/>
            <p:cNvSpPr/>
            <p:nvPr/>
          </p:nvSpPr>
          <p:spPr>
            <a:xfrm>
              <a:off x="5146560" y="2936880"/>
              <a:ext cx="3384720" cy="576360"/>
            </a:xfrm>
            <a:custGeom>
              <a:avLst/>
              <a:gdLst>
                <a:gd name="textAreaLeft" fmla="*/ 528840 w 3384720"/>
                <a:gd name="textAreaRight" fmla="*/ 3194280 w 3384720"/>
                <a:gd name="textAreaTop" fmla="*/ 144720 h 576360"/>
                <a:gd name="textAreaBottom" fmla="*/ 4316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24"/>
                  </a:moveTo>
                  <a:lnTo>
                    <a:pt x="19158" y="5424"/>
                  </a:lnTo>
                  <a:lnTo>
                    <a:pt x="19158" y="0"/>
                  </a:lnTo>
                  <a:lnTo>
                    <a:pt x="21600" y="10800"/>
                  </a:lnTo>
                  <a:lnTo>
                    <a:pt x="19158" y="21600"/>
                  </a:lnTo>
                  <a:lnTo>
                    <a:pt x="19158" y="16176"/>
                  </a:lnTo>
                  <a:lnTo>
                    <a:pt x="3375" y="16176"/>
                  </a:lnTo>
                  <a:close/>
                </a:path>
                <a:path w="21600" h="21600">
                  <a:moveTo>
                    <a:pt x="0" y="5424"/>
                  </a:moveTo>
                  <a:lnTo>
                    <a:pt x="675" y="5424"/>
                  </a:lnTo>
                  <a:lnTo>
                    <a:pt x="675" y="16176"/>
                  </a:lnTo>
                  <a:lnTo>
                    <a:pt x="0" y="16176"/>
                  </a:lnTo>
                  <a:close/>
                </a:path>
                <a:path w="21600" h="21600">
                  <a:moveTo>
                    <a:pt x="1350" y="5424"/>
                  </a:moveTo>
                  <a:lnTo>
                    <a:pt x="2700" y="5424"/>
                  </a:lnTo>
                  <a:lnTo>
                    <a:pt x="2700" y="16176"/>
                  </a:lnTo>
                  <a:lnTo>
                    <a:pt x="1350" y="16176"/>
                  </a:lnTo>
                  <a:close/>
                </a:path>
              </a:pathLst>
            </a:cu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643280" y="264960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굴림"/>
                </a:rPr>
                <a:t>1/2000 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954920" y="2649600"/>
              <a:ext cx="100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99"/>
                  </a:solidFill>
                  <a:latin typeface="굴림"/>
                </a:rPr>
                <a:t>15 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611280" y="1943280"/>
            <a:ext cx="260280" cy="249120"/>
          </a:xfrm>
          <a:prstGeom prst="rect">
            <a:avLst/>
          </a:prstGeom>
          <a:ln w="0">
            <a:noFill/>
          </a:ln>
        </p:spPr>
      </p:pic>
      <p:grpSp>
        <p:nvGrpSpPr>
          <p:cNvPr id="280" name=""/>
          <p:cNvGrpSpPr/>
          <p:nvPr/>
        </p:nvGrpSpPr>
        <p:grpSpPr>
          <a:xfrm>
            <a:off x="826920" y="3645000"/>
            <a:ext cx="3311640" cy="718920"/>
            <a:chOff x="826920" y="3645000"/>
            <a:chExt cx="3311640" cy="718920"/>
          </a:xfrm>
        </p:grpSpPr>
        <p:pic>
          <p:nvPicPr>
            <p:cNvPr id="281" name="" descr=""/>
            <p:cNvPicPr/>
            <p:nvPr/>
          </p:nvPicPr>
          <p:blipFill>
            <a:blip r:embed="rId4"/>
            <a:stretch/>
          </p:blipFill>
          <p:spPr>
            <a:xfrm>
              <a:off x="826920" y="3645000"/>
              <a:ext cx="1440000" cy="718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" descr=""/>
            <p:cNvPicPr/>
            <p:nvPr/>
          </p:nvPicPr>
          <p:blipFill>
            <a:blip r:embed="rId5"/>
            <a:stretch/>
          </p:blipFill>
          <p:spPr>
            <a:xfrm>
              <a:off x="2698920" y="3645000"/>
              <a:ext cx="1439640" cy="718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3" name=""/>
          <p:cNvGrpSpPr/>
          <p:nvPr/>
        </p:nvGrpSpPr>
        <p:grpSpPr>
          <a:xfrm>
            <a:off x="826920" y="2635200"/>
            <a:ext cx="3384720" cy="1038240"/>
            <a:chOff x="826920" y="2635200"/>
            <a:chExt cx="3384720" cy="1038240"/>
          </a:xfrm>
        </p:grpSpPr>
        <p:pic>
          <p:nvPicPr>
            <p:cNvPr id="284" name="" descr=""/>
            <p:cNvPicPr/>
            <p:nvPr/>
          </p:nvPicPr>
          <p:blipFill>
            <a:blip r:embed="rId6"/>
            <a:stretch/>
          </p:blipFill>
          <p:spPr>
            <a:xfrm>
              <a:off x="826920" y="2635200"/>
              <a:ext cx="336240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826920" y="3097080"/>
              <a:ext cx="3384720" cy="576360"/>
            </a:xfrm>
            <a:custGeom>
              <a:avLst/>
              <a:gdLst>
                <a:gd name="textAreaLeft" fmla="*/ 528840 w 3384720"/>
                <a:gd name="textAreaRight" fmla="*/ 3194280 w 3384720"/>
                <a:gd name="textAreaTop" fmla="*/ 144720 h 576360"/>
                <a:gd name="textAreaBottom" fmla="*/ 43164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24"/>
                  </a:moveTo>
                  <a:lnTo>
                    <a:pt x="19158" y="5424"/>
                  </a:lnTo>
                  <a:lnTo>
                    <a:pt x="19158" y="0"/>
                  </a:lnTo>
                  <a:lnTo>
                    <a:pt x="21600" y="10800"/>
                  </a:lnTo>
                  <a:lnTo>
                    <a:pt x="19158" y="21600"/>
                  </a:lnTo>
                  <a:lnTo>
                    <a:pt x="19158" y="16176"/>
                  </a:lnTo>
                  <a:lnTo>
                    <a:pt x="3375" y="16176"/>
                  </a:lnTo>
                  <a:close/>
                </a:path>
                <a:path w="21600" h="21600">
                  <a:moveTo>
                    <a:pt x="0" y="5424"/>
                  </a:moveTo>
                  <a:lnTo>
                    <a:pt x="675" y="5424"/>
                  </a:lnTo>
                  <a:lnTo>
                    <a:pt x="675" y="16176"/>
                  </a:lnTo>
                  <a:lnTo>
                    <a:pt x="0" y="16176"/>
                  </a:lnTo>
                  <a:close/>
                </a:path>
                <a:path w="21600" h="21600">
                  <a:moveTo>
                    <a:pt x="1350" y="5424"/>
                  </a:moveTo>
                  <a:lnTo>
                    <a:pt x="2700" y="5424"/>
                  </a:lnTo>
                  <a:lnTo>
                    <a:pt x="2700" y="16176"/>
                  </a:lnTo>
                  <a:lnTo>
                    <a:pt x="1350" y="16176"/>
                  </a:lnTo>
                  <a:close/>
                </a:path>
              </a:pathLst>
            </a:custGeom>
            <a:gradFill rotWithShape="0">
              <a:gsLst>
                <a:gs pos="0">
                  <a:srgbClr val="00cc66"/>
                </a:gs>
                <a:gs pos="100000">
                  <a:srgbClr val="005e2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굴림"/>
                </a:rPr>
                <a:t>Control Depth of field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5003640" y="3500280"/>
            <a:ext cx="3714840" cy="691920"/>
            <a:chOff x="5003640" y="3500280"/>
            <a:chExt cx="3714840" cy="691920"/>
          </a:xfrm>
        </p:grpSpPr>
        <p:pic>
          <p:nvPicPr>
            <p:cNvPr id="287" name="" descr=""/>
            <p:cNvPicPr/>
            <p:nvPr/>
          </p:nvPicPr>
          <p:blipFill>
            <a:blip r:embed="rId7"/>
            <a:srcRect l="0" t="0" r="50004" b="55941"/>
            <a:stretch/>
          </p:blipFill>
          <p:spPr>
            <a:xfrm>
              <a:off x="5003640" y="3500280"/>
              <a:ext cx="8636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8"/>
            <a:srcRect l="50004" t="0" r="0" b="55941"/>
            <a:stretch/>
          </p:blipFill>
          <p:spPr>
            <a:xfrm>
              <a:off x="7854840" y="3500280"/>
              <a:ext cx="863640" cy="66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9"/>
            <a:srcRect l="0" t="49481" r="51232" b="5016"/>
            <a:stretch/>
          </p:blipFill>
          <p:spPr>
            <a:xfrm>
              <a:off x="5940360" y="3500280"/>
              <a:ext cx="841320" cy="69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0"/>
            <a:srcRect l="51772" t="50005" r="0" b="6461"/>
            <a:stretch/>
          </p:blipFill>
          <p:spPr>
            <a:xfrm>
              <a:off x="6918120" y="3500280"/>
              <a:ext cx="833400" cy="662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826920" y="2205000"/>
            <a:ext cx="2136960" cy="398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A prior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"/>
          <p:cNvSpPr/>
          <p:nvPr/>
        </p:nvSpPr>
        <p:spPr>
          <a:xfrm>
            <a:off x="4859280" y="2205000"/>
            <a:ext cx="2136960" cy="398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S priority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1"/>
          <a:stretch/>
        </p:blipFill>
        <p:spPr>
          <a:xfrm>
            <a:off x="5076720" y="5072040"/>
            <a:ext cx="3672000" cy="120168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4932360" y="4495680"/>
            <a:ext cx="2136600" cy="398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Scene m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5" name=""/>
          <p:cNvSpPr/>
          <p:nvPr/>
        </p:nvSpPr>
        <p:spPr>
          <a:xfrm>
            <a:off x="755640" y="4430880"/>
            <a:ext cx="2136960" cy="3988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굴림"/>
              </a:rPr>
              <a:t>Manual mod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4927680"/>
            <a:ext cx="1700280" cy="136836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3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Full manual fun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0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1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30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04" name="" descr=""/>
            <p:cNvPicPr/>
            <p:nvPr/>
          </p:nvPicPr>
          <p:blipFill>
            <a:blip r:embed="rId1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7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309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310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11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31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14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5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Wide mod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6"/>
          <a:stretch/>
        </p:blipFill>
        <p:spPr>
          <a:xfrm>
            <a:off x="539640" y="144288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971640" y="1413000"/>
            <a:ext cx="59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You can change image ratio to 16:8 in Wide mo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3291120" y="2823120"/>
            <a:ext cx="1152360" cy="1266120"/>
            <a:chOff x="3291120" y="2823120"/>
            <a:chExt cx="1152360" cy="1266120"/>
          </a:xfrm>
        </p:grpSpPr>
        <p:sp>
          <p:nvSpPr>
            <p:cNvPr id="321" name=""/>
            <p:cNvSpPr/>
            <p:nvPr/>
          </p:nvSpPr>
          <p:spPr>
            <a:xfrm rot="5400000">
              <a:off x="3255120" y="2900880"/>
              <a:ext cx="1224000" cy="1152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1c1c1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 rot="2821800">
              <a:off x="3363480" y="3125160"/>
              <a:ext cx="515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PROG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97960" y="3346200"/>
              <a:ext cx="54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00"/>
                  </a:solidFill>
                  <a:latin typeface="Arial"/>
                </a:rPr>
                <a:t>Wide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24" name="" descr=""/>
            <p:cNvPicPr/>
            <p:nvPr/>
          </p:nvPicPr>
          <p:blipFill>
            <a:blip r:embed="rId7"/>
            <a:srcRect l="27819" t="57533" r="69515" b="39307"/>
            <a:stretch/>
          </p:blipFill>
          <p:spPr>
            <a:xfrm rot="19770600">
              <a:off x="3489480" y="3658680"/>
              <a:ext cx="21420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5" name="" descr=""/>
            <p:cNvPicPr/>
            <p:nvPr/>
          </p:nvPicPr>
          <p:blipFill>
            <a:blip r:embed="rId8"/>
            <a:srcRect l="63170" t="39026" r="34508" b="57504"/>
            <a:stretch/>
          </p:blipFill>
          <p:spPr>
            <a:xfrm rot="5400000">
              <a:off x="3752640" y="3754080"/>
              <a:ext cx="262080" cy="27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" descr=""/>
            <p:cNvPicPr/>
            <p:nvPr/>
          </p:nvPicPr>
          <p:blipFill>
            <a:blip r:embed="rId9"/>
            <a:srcRect l="5910" t="11223" r="2955" b="5675"/>
            <a:stretch/>
          </p:blipFill>
          <p:spPr>
            <a:xfrm rot="13013400">
              <a:off x="4049640" y="3661920"/>
              <a:ext cx="214560" cy="2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 rot="8026800">
              <a:off x="3814560" y="3086640"/>
              <a:ext cx="5738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CENE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4163040" y="3339720"/>
              <a:ext cx="270360" cy="303840"/>
              <a:chOff x="4163040" y="3339720"/>
              <a:chExt cx="270360" cy="303840"/>
            </a:xfrm>
          </p:grpSpPr>
          <p:sp>
            <p:nvSpPr>
              <p:cNvPr id="329" name=""/>
              <p:cNvSpPr/>
              <p:nvPr/>
            </p:nvSpPr>
            <p:spPr>
              <a:xfrm rot="7737600">
                <a:off x="4179960" y="3450600"/>
                <a:ext cx="126360" cy="1044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7737600">
                <a:off x="4317120" y="3498840"/>
                <a:ext cx="6300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7737600">
                <a:off x="4267080" y="3562200"/>
                <a:ext cx="63000" cy="69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rot="7737600">
                <a:off x="4300560" y="3325320"/>
                <a:ext cx="63000" cy="209520"/>
              </a:xfrm>
              <a:custGeom>
                <a:avLst/>
                <a:gdLst/>
                <a:ahLst/>
                <a:rect l="l" t="t" r="r" b="b"/>
                <a:pathLst>
                  <a:path w="91" h="272">
                    <a:moveTo>
                      <a:pt x="0" y="0"/>
                    </a:moveTo>
                    <a:lnTo>
                      <a:pt x="91" y="90"/>
                    </a:lnTo>
                    <a:lnTo>
                      <a:pt x="91" y="226"/>
                    </a:lnTo>
                    <a:lnTo>
                      <a:pt x="0" y="2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 rot="5400000">
              <a:off x="3618720" y="2959200"/>
              <a:ext cx="503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UTO</a:t>
              </a:r>
              <a:endParaRPr b="0" lang="en-US" sz="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4" name=""/>
          <p:cNvSpPr/>
          <p:nvPr/>
        </p:nvSpPr>
        <p:spPr>
          <a:xfrm>
            <a:off x="3446640" y="4160880"/>
            <a:ext cx="936360" cy="360360"/>
          </a:xfrm>
          <a:prstGeom prst="rect">
            <a:avLst/>
          </a:prstGeom>
          <a:gradFill rotWithShape="0">
            <a:gsLst>
              <a:gs pos="0">
                <a:srgbClr val="752f00"/>
              </a:gs>
              <a:gs pos="50000">
                <a:srgbClr val="ff6600"/>
              </a:gs>
              <a:gs pos="100000">
                <a:srgbClr val="752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굴림"/>
              </a:rPr>
              <a:t>WIDE SHO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5" name=""/>
          <p:cNvSpPr/>
          <p:nvPr/>
        </p:nvSpPr>
        <p:spPr>
          <a:xfrm>
            <a:off x="4645080" y="3311640"/>
            <a:ext cx="431640" cy="288720"/>
          </a:xfrm>
          <a:prstGeom prst="rightArrow">
            <a:avLst>
              <a:gd name="adj1" fmla="val 50000"/>
              <a:gd name="adj2" fmla="val 37375"/>
            </a:avLst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0"/>
          <a:stretch/>
        </p:blipFill>
        <p:spPr>
          <a:xfrm>
            <a:off x="395280" y="2746440"/>
            <a:ext cx="2448000" cy="183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37" name=""/>
          <p:cNvSpPr/>
          <p:nvPr/>
        </p:nvSpPr>
        <p:spPr>
          <a:xfrm>
            <a:off x="3166920" y="3348000"/>
            <a:ext cx="720720" cy="32544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"/>
          <p:cNvSpPr/>
          <p:nvPr/>
        </p:nvSpPr>
        <p:spPr>
          <a:xfrm>
            <a:off x="1042920" y="4797360"/>
            <a:ext cx="1008000" cy="317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4:3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9" name=""/>
          <p:cNvSpPr/>
          <p:nvPr/>
        </p:nvSpPr>
        <p:spPr>
          <a:xfrm>
            <a:off x="6559560" y="4797360"/>
            <a:ext cx="1008000" cy="3175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16:8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1"/>
          <a:stretch/>
        </p:blipFill>
        <p:spPr>
          <a:xfrm>
            <a:off x="5651640" y="2637000"/>
            <a:ext cx="2808000" cy="21049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341" name=""/>
          <p:cNvSpPr/>
          <p:nvPr/>
        </p:nvSpPr>
        <p:spPr>
          <a:xfrm>
            <a:off x="5219640" y="4437000"/>
            <a:ext cx="345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2" name=""/>
          <p:cNvSpPr/>
          <p:nvPr/>
        </p:nvSpPr>
        <p:spPr>
          <a:xfrm>
            <a:off x="5364000" y="2565360"/>
            <a:ext cx="3456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347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348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49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0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351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52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3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Remote control (optional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6"/>
          <a:srcRect l="20436" t="0" r="18408" b="0"/>
          <a:stretch/>
        </p:blipFill>
        <p:spPr>
          <a:xfrm>
            <a:off x="6156360" y="2565360"/>
            <a:ext cx="1674720" cy="273672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859280" y="2509920"/>
            <a:ext cx="1006560" cy="558720"/>
          </a:xfrm>
          <a:prstGeom prst="borderCallout1">
            <a:avLst>
              <a:gd name="adj1" fmla="val 43915"/>
              <a:gd name="adj2" fmla="val 24545"/>
              <a:gd name="adj3" fmla="val 2453"/>
              <a:gd name="adj4" fmla="val 24545"/>
            </a:avLst>
          </a:prstGeom>
          <a:solidFill>
            <a:srgbClr val="c0c0c0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hutter Butt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"/>
          <p:cNvSpPr/>
          <p:nvPr/>
        </p:nvSpPr>
        <p:spPr>
          <a:xfrm>
            <a:off x="4645080" y="3321000"/>
            <a:ext cx="1295280" cy="343080"/>
          </a:xfrm>
          <a:prstGeom prst="borderCallout1">
            <a:avLst>
              <a:gd name="adj1" fmla="val 32453"/>
              <a:gd name="adj2" fmla="val 26400"/>
              <a:gd name="adj3" fmla="val 1906"/>
              <a:gd name="adj4" fmla="val 26400"/>
            </a:avLst>
          </a:prstGeom>
          <a:solidFill>
            <a:srgbClr val="ff99cc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Zoom-ou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"/>
          <p:cNvSpPr/>
          <p:nvPr/>
        </p:nvSpPr>
        <p:spPr>
          <a:xfrm>
            <a:off x="4789440" y="4116240"/>
            <a:ext cx="1295280" cy="343080"/>
          </a:xfrm>
          <a:prstGeom prst="borderCallout1">
            <a:avLst>
              <a:gd name="adj1" fmla="val 29462"/>
              <a:gd name="adj2" fmla="val 26400"/>
              <a:gd name="adj3" fmla="val 1906"/>
              <a:gd name="adj4" fmla="val 26400"/>
            </a:avLst>
          </a:prstGeom>
          <a:solidFill>
            <a:srgbClr val="ffff99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Lef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"/>
          <p:cNvSpPr/>
          <p:nvPr/>
        </p:nvSpPr>
        <p:spPr>
          <a:xfrm>
            <a:off x="7740720" y="4105440"/>
            <a:ext cx="1295280" cy="342720"/>
          </a:xfrm>
          <a:prstGeom prst="borderCallout1">
            <a:avLst>
              <a:gd name="adj1" fmla="val -6697"/>
              <a:gd name="adj2" fmla="val 26400"/>
              <a:gd name="adj3" fmla="val 19694"/>
              <a:gd name="adj4" fmla="val 26400"/>
            </a:avLst>
          </a:prstGeom>
          <a:solidFill>
            <a:srgbClr val="ffff99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igh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"/>
          <p:cNvSpPr/>
          <p:nvPr/>
        </p:nvSpPr>
        <p:spPr>
          <a:xfrm>
            <a:off x="7667640" y="3446640"/>
            <a:ext cx="1295280" cy="342720"/>
          </a:xfrm>
          <a:prstGeom prst="borderCallout1">
            <a:avLst>
              <a:gd name="adj1" fmla="val -3944"/>
              <a:gd name="adj2" fmla="val 26400"/>
              <a:gd name="adj3" fmla="val 19694"/>
              <a:gd name="adj4" fmla="val 26400"/>
            </a:avLst>
          </a:prstGeom>
          <a:solidFill>
            <a:srgbClr val="ff99cc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Zoom-i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"/>
          <p:cNvSpPr/>
          <p:nvPr/>
        </p:nvSpPr>
        <p:spPr>
          <a:xfrm>
            <a:off x="5508720" y="5718240"/>
            <a:ext cx="1295280" cy="342720"/>
          </a:xfrm>
          <a:prstGeom prst="borderCallout1">
            <a:avLst>
              <a:gd name="adj1" fmla="val 22871"/>
              <a:gd name="adj2" fmla="val -56700"/>
              <a:gd name="adj3" fmla="val 22871"/>
              <a:gd name="adj4" fmla="val 14400"/>
            </a:avLst>
          </a:prstGeom>
          <a:solidFill>
            <a:srgbClr val="ffff99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"/>
          <p:cNvSpPr/>
          <p:nvPr/>
        </p:nvSpPr>
        <p:spPr>
          <a:xfrm>
            <a:off x="7039080" y="5734080"/>
            <a:ext cx="1295280" cy="342720"/>
          </a:xfrm>
          <a:prstGeom prst="borderCallout1">
            <a:avLst>
              <a:gd name="adj1" fmla="val -1271"/>
              <a:gd name="adj2" fmla="val -95300"/>
              <a:gd name="adj3" fmla="val -1271"/>
              <a:gd name="adj4" fmla="val 14400"/>
            </a:avLst>
          </a:prstGeom>
          <a:solidFill>
            <a:srgbClr val="ffff99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Up/ </a:t>
            </a:r>
            <a:r>
              <a:rPr b="1" lang="en-US" sz="1600" spc="-1" strike="noStrike">
                <a:solidFill>
                  <a:srgbClr val="ff0066"/>
                </a:solidFill>
                <a:latin typeface="굴림"/>
              </a:rPr>
              <a:t>Effec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"/>
          <p:cNvSpPr/>
          <p:nvPr/>
        </p:nvSpPr>
        <p:spPr>
          <a:xfrm>
            <a:off x="7058160" y="1844640"/>
            <a:ext cx="1295280" cy="343080"/>
          </a:xfrm>
          <a:prstGeom prst="borderCallout1">
            <a:avLst>
              <a:gd name="adj1" fmla="val -1271"/>
              <a:gd name="adj2" fmla="val 129900"/>
              <a:gd name="adj3" fmla="val -1271"/>
              <a:gd name="adj4" fmla="val 7200"/>
            </a:avLst>
          </a:prstGeom>
          <a:solidFill>
            <a:srgbClr val="ff99cc"/>
          </a:solidFill>
          <a:ln w="19080">
            <a:solidFill>
              <a:srgbClr val="3366ff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enu/OK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"/>
          <p:cNvSpPr/>
          <p:nvPr/>
        </p:nvSpPr>
        <p:spPr>
          <a:xfrm>
            <a:off x="179280" y="2266920"/>
            <a:ext cx="4680000" cy="23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Useful for image display, taking pictures an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ovie recording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It gives more fun to photographers with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image editing function on remote control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7"/>
          <a:stretch/>
        </p:blipFill>
        <p:spPr>
          <a:xfrm>
            <a:off x="741240" y="1471680"/>
            <a:ext cx="287640" cy="257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971640" y="1413000"/>
            <a:ext cx="594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Gives more convenience displaying imag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0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372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373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74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7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37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77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8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6732720" y="2247840"/>
            <a:ext cx="1871640" cy="22885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Understanding the Bush presidency requires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grasping the essential role that Richard Bruce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Cheney continues to play in formulating its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Manichaean view of the world. "He's probably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been as independent and significant a policy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maker as any vice president in our history,"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presidential scholar Robert Dallek told </a:t>
            </a:r>
            <a:r>
              <a:rPr b="0" i="1" lang="en-US" sz="600" spc="-1" strike="noStrike">
                <a:solidFill>
                  <a:srgbClr val="000000"/>
                </a:solidFill>
                <a:latin typeface="굴림"/>
              </a:rPr>
              <a:t>U.S.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" spc="-1" strike="noStrike">
                <a:solidFill>
                  <a:srgbClr val="000000"/>
                </a:solidFill>
                <a:latin typeface="굴림"/>
              </a:rPr>
              <a:t>News. </a:t>
            </a: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Some go further. "The power behind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the throne--an </a:t>
            </a:r>
            <a:r>
              <a:rPr b="0" i="1" lang="en-US" sz="600" spc="-1" strike="noStrike">
                <a:solidFill>
                  <a:srgbClr val="000000"/>
                </a:solidFill>
                <a:latin typeface="굴림"/>
              </a:rPr>
              <a:t>eminence grise </a:t>
            </a: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--that's what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Dick Cheney has become," says Lawrence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Wilkerson, a Cheney critic who was Secretary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of State Colin Powell's chief of staff. "The real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president of the United States is Dick Cheney."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Beyond President Bush himself, no one has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been as influential on issues of national sec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urity and executive power. The vice president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has not only been a leading architect of the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war in Iraq and the overall war on terrorism;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he has championed the U.S.A. Patriot Act 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(story, Page 30), the controversial legislation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designed to make it easier for law enforcement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to hunt down suspected terrorists. And he has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굴림"/>
              </a:rPr>
              <a:t>vigorously promoted domestic spying without</a:t>
            </a:r>
            <a:endParaRPr b="0" lang="en-US" sz="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6"/>
          <a:stretch/>
        </p:blipFill>
        <p:spPr>
          <a:xfrm>
            <a:off x="539640" y="144288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826920" y="141300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Take images of books, magazines and newspapers and convert it to documnents  </a:t>
            </a:r>
            <a:r>
              <a:rPr b="1" lang="ko-KR" sz="1600" spc="-1" strike="noStrike">
                <a:solidFill>
                  <a:srgbClr val="ff0000"/>
                </a:solidFill>
                <a:latin typeface="굴림"/>
              </a:rPr>
              <a:t>(English, Korean, Russian and Chinese availab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7"/>
          <a:stretch/>
        </p:blipFill>
        <p:spPr>
          <a:xfrm>
            <a:off x="539640" y="194796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826920" y="1940040"/>
            <a:ext cx="756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ake out only text from scanned image and PDF file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Text recogni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1011240" y="2529000"/>
            <a:ext cx="1011240" cy="1741320"/>
            <a:chOff x="1011240" y="2529000"/>
            <a:chExt cx="1011240" cy="1741320"/>
          </a:xfrm>
        </p:grpSpPr>
        <p:sp>
          <p:nvSpPr>
            <p:cNvPr id="387" name=""/>
            <p:cNvSpPr/>
            <p:nvPr/>
          </p:nvSpPr>
          <p:spPr>
            <a:xfrm>
              <a:off x="1011240" y="2529000"/>
              <a:ext cx="1008000" cy="317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굴림"/>
                </a:rPr>
                <a:t>Nespaper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11240" y="2887560"/>
              <a:ext cx="1008000" cy="317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Magazine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11240" y="3233880"/>
              <a:ext cx="1008000" cy="317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Books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011240" y="3592440"/>
              <a:ext cx="1008000" cy="317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Scan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014480" y="3952800"/>
              <a:ext cx="1008000" cy="317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굴림"/>
                </a:rPr>
                <a:t>PDF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4140360" y="2492280"/>
            <a:ext cx="1944360" cy="1914480"/>
            <a:chOff x="4140360" y="2492280"/>
            <a:chExt cx="1944360" cy="1914480"/>
          </a:xfrm>
        </p:grpSpPr>
        <p:pic>
          <p:nvPicPr>
            <p:cNvPr id="393" name="" descr=""/>
            <p:cNvPicPr/>
            <p:nvPr/>
          </p:nvPicPr>
          <p:blipFill>
            <a:blip r:embed="rId8"/>
            <a:stretch/>
          </p:blipFill>
          <p:spPr>
            <a:xfrm>
              <a:off x="4140360" y="2492280"/>
              <a:ext cx="1944360" cy="19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4" name=""/>
            <p:cNvSpPr/>
            <p:nvPr/>
          </p:nvSpPr>
          <p:spPr>
            <a:xfrm>
              <a:off x="4636080" y="3004560"/>
              <a:ext cx="991080" cy="1280520"/>
            </a:xfrm>
            <a:custGeom>
              <a:avLst/>
              <a:gdLst/>
              <a:ahLst/>
              <a:rect l="l" t="t" r="r" b="b"/>
              <a:pathLst>
                <a:path w="726" h="907">
                  <a:moveTo>
                    <a:pt x="0" y="272"/>
                  </a:moveTo>
                  <a:lnTo>
                    <a:pt x="726" y="0"/>
                  </a:lnTo>
                  <a:lnTo>
                    <a:pt x="680" y="544"/>
                  </a:lnTo>
                  <a:lnTo>
                    <a:pt x="45" y="907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395" name="" descr=""/>
            <p:cNvPicPr/>
            <p:nvPr/>
          </p:nvPicPr>
          <p:blipFill>
            <a:blip r:embed="rId9"/>
            <a:stretch/>
          </p:blipFill>
          <p:spPr>
            <a:xfrm rot="20785200">
              <a:off x="4895280" y="3171240"/>
              <a:ext cx="589680" cy="75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6" name=""/>
          <p:cNvSpPr/>
          <p:nvPr/>
        </p:nvSpPr>
        <p:spPr>
          <a:xfrm>
            <a:off x="6804000" y="4581360"/>
            <a:ext cx="647640" cy="28764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굴림"/>
              </a:rPr>
              <a:t>do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7" name=""/>
          <p:cNvSpPr/>
          <p:nvPr/>
        </p:nvSpPr>
        <p:spPr>
          <a:xfrm>
            <a:off x="7423200" y="4292640"/>
            <a:ext cx="936720" cy="86508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굴림"/>
              </a:rPr>
              <a:t>.txt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8" name=""/>
          <p:cNvSpPr/>
          <p:nvPr/>
        </p:nvSpPr>
        <p:spPr>
          <a:xfrm>
            <a:off x="5243040" y="4200480"/>
            <a:ext cx="605880" cy="36828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jp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0"/>
          <a:srcRect l="1633" t="18232" r="3135" b="15233"/>
          <a:stretch/>
        </p:blipFill>
        <p:spPr>
          <a:xfrm>
            <a:off x="3594240" y="5056200"/>
            <a:ext cx="1366560" cy="954000"/>
          </a:xfrm>
          <a:prstGeom prst="rect">
            <a:avLst/>
          </a:prstGeom>
          <a:ln w="0">
            <a:noFill/>
          </a:ln>
        </p:spPr>
      </p:pic>
      <p:grpSp>
        <p:nvGrpSpPr>
          <p:cNvPr id="400" name=""/>
          <p:cNvGrpSpPr/>
          <p:nvPr/>
        </p:nvGrpSpPr>
        <p:grpSpPr>
          <a:xfrm>
            <a:off x="3879720" y="5105520"/>
            <a:ext cx="792000" cy="792000"/>
            <a:chOff x="3879720" y="5105520"/>
            <a:chExt cx="792000" cy="792000"/>
          </a:xfrm>
        </p:grpSpPr>
        <p:sp>
          <p:nvSpPr>
            <p:cNvPr id="401" name=""/>
            <p:cNvSpPr/>
            <p:nvPr/>
          </p:nvSpPr>
          <p:spPr>
            <a:xfrm>
              <a:off x="3879720" y="5105520"/>
              <a:ext cx="792000" cy="792000"/>
            </a:xfrm>
            <a:prstGeom prst="ellipse">
              <a:avLst/>
            </a:prstGeom>
            <a:noFill/>
            <a:ln w="60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966840" y="5249520"/>
              <a:ext cx="633600" cy="5029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4009680" y="5192280"/>
              <a:ext cx="533520" cy="60444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914400" y="4854600"/>
            <a:ext cx="2697120" cy="1222200"/>
            <a:chOff x="914400" y="4854600"/>
            <a:chExt cx="2697120" cy="1222200"/>
          </a:xfrm>
        </p:grpSpPr>
        <p:pic>
          <p:nvPicPr>
            <p:cNvPr id="405" name="" descr=""/>
            <p:cNvPicPr/>
            <p:nvPr/>
          </p:nvPicPr>
          <p:blipFill>
            <a:blip r:embed="rId11"/>
            <a:srcRect l="0" t="27340" r="0" b="27340"/>
            <a:stretch/>
          </p:blipFill>
          <p:spPr>
            <a:xfrm>
              <a:off x="914400" y="4854600"/>
              <a:ext cx="2697120" cy="122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06" name=""/>
            <p:cNvGrpSpPr/>
            <p:nvPr/>
          </p:nvGrpSpPr>
          <p:grpSpPr>
            <a:xfrm>
              <a:off x="1778040" y="5025960"/>
              <a:ext cx="792000" cy="792360"/>
              <a:chOff x="1778040" y="5025960"/>
              <a:chExt cx="792000" cy="792360"/>
            </a:xfrm>
          </p:grpSpPr>
          <p:sp>
            <p:nvSpPr>
              <p:cNvPr id="407" name=""/>
              <p:cNvSpPr/>
              <p:nvPr/>
            </p:nvSpPr>
            <p:spPr>
              <a:xfrm>
                <a:off x="1778040" y="5025960"/>
                <a:ext cx="792000" cy="792360"/>
              </a:xfrm>
              <a:prstGeom prst="ellipse">
                <a:avLst/>
              </a:prstGeom>
              <a:noFill/>
              <a:ln w="604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1865160" y="5170320"/>
                <a:ext cx="633600" cy="50328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V="1">
                <a:off x="1908000" y="5113440"/>
                <a:ext cx="533520" cy="60480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410" name=""/>
          <p:cNvGrpSpPr/>
          <p:nvPr/>
        </p:nvGrpSpPr>
        <p:grpSpPr>
          <a:xfrm>
            <a:off x="2195640" y="2565360"/>
            <a:ext cx="1931400" cy="1237680"/>
            <a:chOff x="2195640" y="2565360"/>
            <a:chExt cx="1931400" cy="1237680"/>
          </a:xfrm>
        </p:grpSpPr>
        <p:grpSp>
          <p:nvGrpSpPr>
            <p:cNvPr id="411" name=""/>
            <p:cNvGrpSpPr/>
            <p:nvPr/>
          </p:nvGrpSpPr>
          <p:grpSpPr>
            <a:xfrm>
              <a:off x="2195640" y="2565360"/>
              <a:ext cx="1931400" cy="1237680"/>
              <a:chOff x="2195640" y="2565360"/>
              <a:chExt cx="1931400" cy="1237680"/>
            </a:xfrm>
          </p:grpSpPr>
          <p:sp>
            <p:nvSpPr>
              <p:cNvPr id="412" name=""/>
              <p:cNvSpPr/>
              <p:nvPr/>
            </p:nvSpPr>
            <p:spPr>
              <a:xfrm>
                <a:off x="2195640" y="2801880"/>
                <a:ext cx="1865520" cy="1001160"/>
              </a:xfrm>
              <a:custGeom>
                <a:avLst/>
                <a:gdLst/>
                <a:ahLst/>
                <a:rect l="l" t="t" r="r" b="b"/>
                <a:pathLst>
                  <a:path w="1044" h="590">
                    <a:moveTo>
                      <a:pt x="454" y="0"/>
                    </a:moveTo>
                    <a:lnTo>
                      <a:pt x="1044" y="0"/>
                    </a:lnTo>
                    <a:lnTo>
                      <a:pt x="590" y="590"/>
                    </a:lnTo>
                    <a:lnTo>
                      <a:pt x="0" y="590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2213280" y="2729880"/>
                <a:ext cx="1865520" cy="1000800"/>
              </a:xfrm>
              <a:custGeom>
                <a:avLst/>
                <a:gdLst/>
                <a:ahLst/>
                <a:rect l="l" t="t" r="r" b="b"/>
                <a:pathLst>
                  <a:path w="1044" h="590">
                    <a:moveTo>
                      <a:pt x="454" y="0"/>
                    </a:moveTo>
                    <a:lnTo>
                      <a:pt x="1044" y="0"/>
                    </a:lnTo>
                    <a:lnTo>
                      <a:pt x="590" y="590"/>
                    </a:lnTo>
                    <a:lnTo>
                      <a:pt x="0" y="590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2231280" y="2655360"/>
                <a:ext cx="1865520" cy="1001160"/>
              </a:xfrm>
              <a:custGeom>
                <a:avLst/>
                <a:gdLst/>
                <a:ahLst/>
                <a:rect l="l" t="t" r="r" b="b"/>
                <a:pathLst>
                  <a:path w="1044" h="590">
                    <a:moveTo>
                      <a:pt x="454" y="0"/>
                    </a:moveTo>
                    <a:lnTo>
                      <a:pt x="1044" y="0"/>
                    </a:lnTo>
                    <a:lnTo>
                      <a:pt x="590" y="590"/>
                    </a:lnTo>
                    <a:lnTo>
                      <a:pt x="0" y="590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2261520" y="2565360"/>
                <a:ext cx="1865520" cy="1000800"/>
              </a:xfrm>
              <a:custGeom>
                <a:avLst/>
                <a:gdLst/>
                <a:ahLst/>
                <a:rect l="l" t="t" r="r" b="b"/>
                <a:pathLst>
                  <a:path w="1044" h="590">
                    <a:moveTo>
                      <a:pt x="454" y="0"/>
                    </a:moveTo>
                    <a:lnTo>
                      <a:pt x="1044" y="0"/>
                    </a:lnTo>
                    <a:lnTo>
                      <a:pt x="590" y="590"/>
                    </a:lnTo>
                    <a:lnTo>
                      <a:pt x="0" y="590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eaeaea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3144600" y="263988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30480" y="279864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85920" y="271152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971800" y="287028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914560" y="294156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800080" y="310032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855880" y="301284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741400" y="317160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641320" y="324468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27200" y="340344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82640" y="331632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68520" y="3475080"/>
              <a:ext cx="72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893880" y="4683240"/>
            <a:ext cx="4182840" cy="148248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9" name=""/>
          <p:cNvSpPr/>
          <p:nvPr/>
        </p:nvSpPr>
        <p:spPr>
          <a:xfrm>
            <a:off x="900000" y="2262240"/>
            <a:ext cx="5543640" cy="231912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0" name=""/>
          <p:cNvSpPr/>
          <p:nvPr/>
        </p:nvSpPr>
        <p:spPr>
          <a:xfrm>
            <a:off x="5724360" y="4653000"/>
            <a:ext cx="2160720" cy="1081080"/>
          </a:xfrm>
          <a:custGeom>
            <a:avLst/>
            <a:gdLst/>
            <a:ahLst/>
            <a:rect l="l" t="t" r="r" b="b"/>
            <a:pathLst>
              <a:path w="1361" h="908">
                <a:moveTo>
                  <a:pt x="0" y="0"/>
                </a:moveTo>
                <a:lnTo>
                  <a:pt x="0" y="908"/>
                </a:lnTo>
                <a:lnTo>
                  <a:pt x="1361" y="908"/>
                </a:lnTo>
                <a:lnTo>
                  <a:pt x="1361" y="182"/>
                </a:lnTo>
              </a:path>
            </a:pathLst>
          </a:custGeom>
          <a:noFill/>
          <a:ln w="136440">
            <a:solidFill>
              <a:srgbClr val="c0c0c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6227640" y="5189400"/>
            <a:ext cx="1166760" cy="1118880"/>
            <a:chOff x="6227640" y="5189400"/>
            <a:chExt cx="1166760" cy="1118880"/>
          </a:xfrm>
        </p:grpSpPr>
        <p:pic>
          <p:nvPicPr>
            <p:cNvPr id="432" name="" descr=""/>
            <p:cNvPicPr/>
            <p:nvPr/>
          </p:nvPicPr>
          <p:blipFill>
            <a:blip r:embed="rId12"/>
            <a:stretch/>
          </p:blipFill>
          <p:spPr>
            <a:xfrm>
              <a:off x="6227640" y="5189400"/>
              <a:ext cx="1166760" cy="11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6395760" y="5499720"/>
              <a:ext cx="849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Digimax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000000"/>
                  </a:solidFill>
                  <a:latin typeface="굴림"/>
                </a:rPr>
                <a:t>Reader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042920" y="427824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"/>
          <p:cNvSpPr/>
          <p:nvPr/>
        </p:nvSpPr>
        <p:spPr>
          <a:xfrm>
            <a:off x="1042920" y="3341520"/>
            <a:ext cx="7850160" cy="77976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6" name=""/>
          <p:cNvSpPr/>
          <p:nvPr/>
        </p:nvSpPr>
        <p:spPr>
          <a:xfrm>
            <a:off x="1042920" y="240516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7" name=""/>
          <p:cNvSpPr/>
          <p:nvPr/>
        </p:nvSpPr>
        <p:spPr>
          <a:xfrm>
            <a:off x="1042920" y="148428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0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442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443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44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4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44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47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8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"/>
          <p:cNvSpPr/>
          <p:nvPr/>
        </p:nvSpPr>
        <p:spPr>
          <a:xfrm>
            <a:off x="1187280" y="169380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lassic design associating analogue with cutting-edge digital technolog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"/>
          <p:cNvSpPr/>
          <p:nvPr/>
        </p:nvSpPr>
        <p:spPr>
          <a:xfrm>
            <a:off x="1187280" y="2494080"/>
            <a:ext cx="741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Text recognition function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: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English, Korean, Russian and chines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Take out only texts from scanned docs and PDF fil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1042920" y="521352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10960" y="1500120"/>
            <a:ext cx="831960" cy="747720"/>
            <a:chOff x="210960" y="1500120"/>
            <a:chExt cx="831960" cy="747720"/>
          </a:xfrm>
        </p:grpSpPr>
        <p:pic>
          <p:nvPicPr>
            <p:cNvPr id="455" name="" descr=""/>
            <p:cNvPicPr/>
            <p:nvPr/>
          </p:nvPicPr>
          <p:blipFill>
            <a:blip r:embed="rId6"/>
            <a:stretch/>
          </p:blipFill>
          <p:spPr>
            <a:xfrm>
              <a:off x="210960" y="150012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94920" y="16509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57" name=""/>
          <p:cNvGrpSpPr/>
          <p:nvPr/>
        </p:nvGrpSpPr>
        <p:grpSpPr>
          <a:xfrm>
            <a:off x="217440" y="2448000"/>
            <a:ext cx="785520" cy="708120"/>
            <a:chOff x="217440" y="2448000"/>
            <a:chExt cx="785520" cy="708120"/>
          </a:xfrm>
        </p:grpSpPr>
        <p:pic>
          <p:nvPicPr>
            <p:cNvPr id="458" name="" descr=""/>
            <p:cNvPicPr/>
            <p:nvPr/>
          </p:nvPicPr>
          <p:blipFill>
            <a:blip r:embed="rId7"/>
            <a:stretch/>
          </p:blipFill>
          <p:spPr>
            <a:xfrm>
              <a:off x="217440" y="2448000"/>
              <a:ext cx="78552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396360" y="25909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210960" y="3363840"/>
            <a:ext cx="792000" cy="712440"/>
            <a:chOff x="210960" y="3363840"/>
            <a:chExt cx="792000" cy="712440"/>
          </a:xfrm>
        </p:grpSpPr>
        <p:pic>
          <p:nvPicPr>
            <p:cNvPr id="461" name="" descr=""/>
            <p:cNvPicPr/>
            <p:nvPr/>
          </p:nvPicPr>
          <p:blipFill>
            <a:blip r:embed="rId8"/>
            <a:stretch/>
          </p:blipFill>
          <p:spPr>
            <a:xfrm>
              <a:off x="210960" y="3363840"/>
              <a:ext cx="79200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2" name=""/>
            <p:cNvSpPr/>
            <p:nvPr/>
          </p:nvSpPr>
          <p:spPr>
            <a:xfrm>
              <a:off x="366480" y="350028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36520" y="4336920"/>
            <a:ext cx="720720" cy="647640"/>
            <a:chOff x="236520" y="4336920"/>
            <a:chExt cx="720720" cy="647640"/>
          </a:xfrm>
        </p:grpSpPr>
        <p:pic>
          <p:nvPicPr>
            <p:cNvPr id="464" name="" descr=""/>
            <p:cNvPicPr/>
            <p:nvPr/>
          </p:nvPicPr>
          <p:blipFill>
            <a:blip r:embed="rId9"/>
            <a:stretch/>
          </p:blipFill>
          <p:spPr>
            <a:xfrm>
              <a:off x="236520" y="433692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"/>
            <p:cNvSpPr/>
            <p:nvPr/>
          </p:nvSpPr>
          <p:spPr>
            <a:xfrm>
              <a:off x="358560" y="44384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22120" y="5245200"/>
            <a:ext cx="720720" cy="647640"/>
            <a:chOff x="222120" y="5245200"/>
            <a:chExt cx="720720" cy="647640"/>
          </a:xfrm>
        </p:grpSpPr>
        <p:pic>
          <p:nvPicPr>
            <p:cNvPr id="467" name="" descr=""/>
            <p:cNvPicPr/>
            <p:nvPr/>
          </p:nvPicPr>
          <p:blipFill>
            <a:blip r:embed="rId10"/>
            <a:stretch/>
          </p:blipFill>
          <p:spPr>
            <a:xfrm>
              <a:off x="222120" y="524520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336600" y="534492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1171440" y="4290840"/>
            <a:ext cx="605016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Digimax Master S/W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- Make Movie album and movie file for DS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"/>
          <p:cNvSpPr/>
          <p:nvPr/>
        </p:nvSpPr>
        <p:spPr>
          <a:xfrm>
            <a:off x="1173240" y="3416400"/>
            <a:ext cx="758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Various effect : Highlight, composition shot, Photo frame, movie editing, take out still image from movie and  so o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"/>
          <p:cNvSpPr/>
          <p:nvPr/>
        </p:nvSpPr>
        <p:spPr>
          <a:xfrm>
            <a:off x="1158840" y="5445000"/>
            <a:ext cx="605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Voice recorder (Max 1 hour), Voice memo (Max 10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8215200" y="74520"/>
            <a:ext cx="825480" cy="304920"/>
            <a:chOff x="8215200" y="74520"/>
            <a:chExt cx="825480" cy="304920"/>
          </a:xfrm>
        </p:grpSpPr>
        <p:sp>
          <p:nvSpPr>
            <p:cNvPr id="473" name=""/>
            <p:cNvSpPr/>
            <p:nvPr/>
          </p:nvSpPr>
          <p:spPr>
            <a:xfrm>
              <a:off x="8333640" y="17604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74" name="" descr=""/>
            <p:cNvPicPr/>
            <p:nvPr/>
          </p:nvPicPr>
          <p:blipFill>
            <a:blip r:embed="rId11"/>
            <a:srcRect l="7700" t="20011" r="9225" b="16565"/>
            <a:stretch/>
          </p:blipFill>
          <p:spPr>
            <a:xfrm>
              <a:off x="8215200" y="74520"/>
              <a:ext cx="82548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Compared to…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479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480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1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48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4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5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468360" y="1484280"/>
          <a:ext cx="8280360" cy="4807080"/>
        </p:xfrm>
        <a:graphic>
          <a:graphicData uri="http://schemas.openxmlformats.org/drawingml/2006/table">
            <a:tbl>
              <a:tblPr/>
              <a:tblGrid>
                <a:gridCol w="2070000"/>
                <a:gridCol w="2070000"/>
                <a:gridCol w="2070360"/>
                <a:gridCol w="2070000"/>
              </a:tblGrid>
              <a:tr h="77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AMS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2006 Feb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AN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2005 Oc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NIK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2006 Oc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gimax L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oolpix-P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C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/1.8” 8.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/1.8” 8.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/1.8” 8.1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Zo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cal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5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gital 8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cal 3.6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gital 4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Optical 3.5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Digital 4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ov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PEG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JPE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LC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5”(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굴림"/>
                        </a:rPr>
                        <a:t>230K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5”(115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5”(110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Mac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c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7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Siz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0.5x60.5x29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4x57x39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1x60x39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Spec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0840"/>
          </a:xfrm>
          <a:prstGeom prst="rect">
            <a:avLst/>
          </a:prstGeom>
          <a:ln w="0">
            <a:noFill/>
          </a:ln>
        </p:spPr>
      </p:pic>
      <p:grpSp>
        <p:nvGrpSpPr>
          <p:cNvPr id="489" name=""/>
          <p:cNvGrpSpPr/>
          <p:nvPr/>
        </p:nvGrpSpPr>
        <p:grpSpPr>
          <a:xfrm>
            <a:off x="8215200" y="74520"/>
            <a:ext cx="825480" cy="304920"/>
            <a:chOff x="8215200" y="74520"/>
            <a:chExt cx="825480" cy="304920"/>
          </a:xfrm>
        </p:grpSpPr>
        <p:sp>
          <p:nvSpPr>
            <p:cNvPr id="490" name=""/>
            <p:cNvSpPr/>
            <p:nvPr/>
          </p:nvSpPr>
          <p:spPr>
            <a:xfrm>
              <a:off x="8333640" y="17604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91" name="" descr=""/>
            <p:cNvPicPr/>
            <p:nvPr/>
          </p:nvPicPr>
          <p:blipFill>
            <a:blip r:embed="rId6"/>
            <a:srcRect l="7700" t="20011" r="9225" b="16565"/>
            <a:stretch/>
          </p:blipFill>
          <p:spPr>
            <a:xfrm>
              <a:off x="8215200" y="74520"/>
              <a:ext cx="82548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4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Q &amp; A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496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497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98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9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500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01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"/>
          <p:cNvSpPr/>
          <p:nvPr/>
        </p:nvSpPr>
        <p:spPr>
          <a:xfrm>
            <a:off x="825480" y="966960"/>
            <a:ext cx="7850160" cy="1382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What is difference between HDMI and USB, DVI, A/V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ko-KR" sz="1600" spc="-1" strike="noStrike">
                <a:solidFill>
                  <a:srgbClr val="3366ff"/>
                </a:solidFill>
                <a:latin typeface="Arial"/>
              </a:rPr>
              <a:t>1) HDMI supports Audio and video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66ff"/>
                </a:solidFill>
                <a:latin typeface="Arial"/>
              </a:rPr>
              <a:t>            </a:t>
            </a:r>
            <a:r>
              <a:rPr b="1" lang="ko-KR" sz="1600" spc="-1" strike="noStrike">
                <a:solidFill>
                  <a:srgbClr val="3366ff"/>
                </a:solidFill>
                <a:latin typeface="Arial"/>
              </a:rPr>
              <a:t>2) HDMI transfers raw digital data without compression : High Qualit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66ff"/>
                </a:solidFill>
                <a:latin typeface="Arial"/>
              </a:rPr>
              <a:t>            </a:t>
            </a:r>
            <a:r>
              <a:rPr b="1" lang="ko-KR" sz="1600" spc="-1" strike="noStrike">
                <a:solidFill>
                  <a:srgbClr val="3366ff"/>
                </a:solidFill>
                <a:latin typeface="Arial"/>
              </a:rPr>
              <a:t>3) High compatibility with other digital devices(TV, Set-top box, DV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4" name=""/>
          <p:cNvSpPr/>
          <p:nvPr/>
        </p:nvSpPr>
        <p:spPr>
          <a:xfrm>
            <a:off x="825480" y="2631960"/>
            <a:ext cx="7850160" cy="144468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many shots and movie recording with one charge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1) Still image : 150minute / 300 shot (Internal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2) Movie    : Depend on Memory card siz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"/>
          <p:cNvSpPr/>
          <p:nvPr/>
        </p:nvSpPr>
        <p:spPr>
          <a:xfrm>
            <a:off x="825480" y="4508640"/>
            <a:ext cx="7850160" cy="151272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s the basic spec of N5 barrel which is adopted to L85?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1) 5x Optical ZOOM Lens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2) Aperture Wide: 2.8, Tele: 4.4 Focal length 38-192mm (in 35mm forma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3366ff"/>
                </a:solidFill>
                <a:latin typeface="Arial"/>
              </a:rPr>
              <a:t>3) Shutter speed 15s~1/2000s in Auto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765000"/>
            <a:ext cx="154764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2459160"/>
            <a:ext cx="1547640" cy="5760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"/>
          <p:cNvSpPr/>
          <p:nvPr/>
        </p:nvSpPr>
        <p:spPr>
          <a:xfrm>
            <a:off x="0" y="4292640"/>
            <a:ext cx="154764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5"/>
          <a:stretch/>
        </p:blipFill>
        <p:spPr>
          <a:xfrm>
            <a:off x="57240" y="57240"/>
            <a:ext cx="468360" cy="420480"/>
          </a:xfrm>
          <a:prstGeom prst="rect">
            <a:avLst/>
          </a:prstGeom>
          <a:ln w="0">
            <a:noFill/>
          </a:ln>
        </p:spPr>
      </p:pic>
      <p:grpSp>
        <p:nvGrpSpPr>
          <p:cNvPr id="510" name=""/>
          <p:cNvGrpSpPr/>
          <p:nvPr/>
        </p:nvGrpSpPr>
        <p:grpSpPr>
          <a:xfrm>
            <a:off x="8215200" y="74520"/>
            <a:ext cx="825480" cy="304920"/>
            <a:chOff x="8215200" y="74520"/>
            <a:chExt cx="825480" cy="304920"/>
          </a:xfrm>
        </p:grpSpPr>
        <p:sp>
          <p:nvSpPr>
            <p:cNvPr id="511" name=""/>
            <p:cNvSpPr/>
            <p:nvPr/>
          </p:nvSpPr>
          <p:spPr>
            <a:xfrm>
              <a:off x="8333640" y="17604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12" name="" descr=""/>
            <p:cNvPicPr/>
            <p:nvPr/>
          </p:nvPicPr>
          <p:blipFill>
            <a:blip r:embed="rId6"/>
            <a:srcRect l="7700" t="20011" r="9225" b="16565"/>
            <a:stretch/>
          </p:blipFill>
          <p:spPr>
            <a:xfrm>
              <a:off x="8215200" y="74520"/>
              <a:ext cx="825480" cy="304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47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3889440" y="5046840"/>
            <a:ext cx="7128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’</a:t>
            </a: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06 </a:t>
            </a:r>
            <a:r>
              <a:rPr b="1" lang="zh-CN" sz="2800" spc="-1" strike="noStrike">
                <a:solidFill>
                  <a:srgbClr val="336699"/>
                </a:solidFill>
                <a:latin typeface="굴림"/>
              </a:rPr>
              <a:t>상반기 출시기종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54000" y="58680"/>
            <a:ext cx="471600" cy="42408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5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5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0" y="1233360"/>
            <a:ext cx="9144000" cy="4456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076720" y="906480"/>
            <a:ext cx="4067280" cy="458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 concep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"/>
          <p:cNvSpPr/>
          <p:nvPr/>
        </p:nvSpPr>
        <p:spPr>
          <a:xfrm>
            <a:off x="5508720" y="195912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 first HDMI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"/>
          <p:cNvSpPr/>
          <p:nvPr/>
        </p:nvSpPr>
        <p:spPr>
          <a:xfrm>
            <a:off x="5508720" y="240660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ie and motion picture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285264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quality 2.5” LCD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"/>
          <p:cNvSpPr/>
          <p:nvPr/>
        </p:nvSpPr>
        <p:spPr>
          <a:xfrm>
            <a:off x="5508720" y="328464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ual and wide mode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"/>
          <p:cNvSpPr/>
          <p:nvPr/>
        </p:nvSpPr>
        <p:spPr>
          <a:xfrm>
            <a:off x="5508720" y="373068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ote control and tex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5076720" y="5041800"/>
            <a:ext cx="4067280" cy="459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d to…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5076720" y="5562720"/>
            <a:ext cx="4067280" cy="4586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611280" y="2205000"/>
            <a:ext cx="2376360" cy="1392120"/>
          </a:xfrm>
          <a:prstGeom prst="rect">
            <a:avLst/>
          </a:prstGeom>
          <a:ln w="0">
            <a:noFill/>
          </a:ln>
        </p:spPr>
      </p:pic>
      <p:grpSp>
        <p:nvGrpSpPr>
          <p:cNvPr id="69" name=""/>
          <p:cNvGrpSpPr/>
          <p:nvPr/>
        </p:nvGrpSpPr>
        <p:grpSpPr>
          <a:xfrm>
            <a:off x="-6480" y="1125360"/>
            <a:ext cx="4362120" cy="844200"/>
            <a:chOff x="-6480" y="1125360"/>
            <a:chExt cx="4362120" cy="844200"/>
          </a:xfrm>
        </p:grpSpPr>
        <p:sp>
          <p:nvSpPr>
            <p:cNvPr id="70" name=""/>
            <p:cNvSpPr/>
            <p:nvPr/>
          </p:nvSpPr>
          <p:spPr>
            <a:xfrm>
              <a:off x="-6480" y="1125360"/>
              <a:ext cx="4362120" cy="8164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9240" y="1235520"/>
              <a:ext cx="412884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100" spc="-1" strike="noStrike">
                  <a:solidFill>
                    <a:srgbClr val="ffffff"/>
                  </a:solidFill>
                  <a:latin typeface="굴림"/>
                </a:rPr>
                <a:t>Digimax L85 (8M, 5X)</a:t>
              </a:r>
              <a:endParaRPr b="0" lang="en-US" sz="21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2340000" y="3860640"/>
            <a:ext cx="2449440" cy="14907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076720" y="1427040"/>
            <a:ext cx="4067280" cy="459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les talk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417816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5508720" y="4610160"/>
            <a:ext cx="3635280" cy="360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in features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468360" y="4149720"/>
            <a:ext cx="8424720" cy="180036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Product Concep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81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82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3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85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539640" y="441972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26920" y="4373640"/>
            <a:ext cx="669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Customers who want something different with conventional DS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468360" y="1425600"/>
            <a:ext cx="8424720" cy="180036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Idea of product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"/>
          <p:cNvSpPr/>
          <p:nvPr/>
        </p:nvSpPr>
        <p:spPr>
          <a:xfrm>
            <a:off x="6480" y="3471840"/>
            <a:ext cx="377964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굴림"/>
              </a:rPr>
              <a:t>For whom L85 is produced?</a:t>
            </a:r>
            <a:endParaRPr b="0" lang="en-US" sz="2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"/>
          <p:cNvSpPr/>
          <p:nvPr/>
        </p:nvSpPr>
        <p:spPr>
          <a:xfrm>
            <a:off x="826920" y="484992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Customers who want to enjoy high quality image on digital HD TV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"/>
          <p:cNvSpPr/>
          <p:nvPr/>
        </p:nvSpPr>
        <p:spPr>
          <a:xfrm>
            <a:off x="826920" y="5338800"/>
            <a:ext cx="777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Customers who prefer design of analogue cameras and who are fed up with same digital desig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39640" y="49006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539640" y="538488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539640" y="174132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826920" y="1695600"/>
            <a:ext cx="799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argeting High-end Compact DSC market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2171880"/>
            <a:ext cx="77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argeting customers’ needs on High mega-pixels and high image quality DSC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826920" y="266076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Boosting SAMSUNG DSC’s brand image with premium model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0"/>
          <a:stretch/>
        </p:blipFill>
        <p:spPr>
          <a:xfrm>
            <a:off x="539640" y="2222640"/>
            <a:ext cx="287280" cy="257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1"/>
          <a:stretch/>
        </p:blipFill>
        <p:spPr>
          <a:xfrm>
            <a:off x="539640" y="2706840"/>
            <a:ext cx="287280" cy="25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58760" y="286704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talk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110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1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5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grpSp>
        <p:nvGrpSpPr>
          <p:cNvPr id="117" name=""/>
          <p:cNvGrpSpPr/>
          <p:nvPr/>
        </p:nvGrpSpPr>
        <p:grpSpPr>
          <a:xfrm>
            <a:off x="210960" y="936720"/>
            <a:ext cx="831960" cy="747720"/>
            <a:chOff x="210960" y="936720"/>
            <a:chExt cx="831960" cy="747720"/>
          </a:xfrm>
        </p:grpSpPr>
        <p:pic>
          <p:nvPicPr>
            <p:cNvPr id="118" name="" descr=""/>
            <p:cNvPicPr/>
            <p:nvPr/>
          </p:nvPicPr>
          <p:blipFill>
            <a:blip r:embed="rId6"/>
            <a:stretch/>
          </p:blipFill>
          <p:spPr>
            <a:xfrm>
              <a:off x="210960" y="936720"/>
              <a:ext cx="831960" cy="74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394920" y="1087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1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17440" y="1889280"/>
            <a:ext cx="785520" cy="707760"/>
            <a:chOff x="217440" y="1889280"/>
            <a:chExt cx="785520" cy="707760"/>
          </a:xfrm>
        </p:grpSpPr>
        <p:pic>
          <p:nvPicPr>
            <p:cNvPr id="121" name="" descr=""/>
            <p:cNvPicPr/>
            <p:nvPr/>
          </p:nvPicPr>
          <p:blipFill>
            <a:blip r:embed="rId7"/>
            <a:stretch/>
          </p:blipFill>
          <p:spPr>
            <a:xfrm>
              <a:off x="217440" y="1889280"/>
              <a:ext cx="785520" cy="70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96360" y="2031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</a:rPr>
                <a:t>02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210960" y="2876400"/>
            <a:ext cx="792000" cy="712440"/>
            <a:chOff x="210960" y="2876400"/>
            <a:chExt cx="792000" cy="712440"/>
          </a:xfrm>
        </p:grpSpPr>
        <p:pic>
          <p:nvPicPr>
            <p:cNvPr id="124" name="" descr=""/>
            <p:cNvPicPr/>
            <p:nvPr/>
          </p:nvPicPr>
          <p:blipFill>
            <a:blip r:embed="rId8"/>
            <a:stretch/>
          </p:blipFill>
          <p:spPr>
            <a:xfrm>
              <a:off x="210960" y="2876400"/>
              <a:ext cx="792000" cy="71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66480" y="301284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3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1042920" y="92088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1817640"/>
            <a:ext cx="7850160" cy="96372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1042920" y="381960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1042920" y="4799160"/>
            <a:ext cx="7850160" cy="779400"/>
          </a:xfrm>
          <a:prstGeom prst="roundRect">
            <a:avLst>
              <a:gd name="adj" fmla="val 16667"/>
            </a:avLst>
          </a:prstGeom>
          <a:solidFill>
            <a:srgbClr val="99cc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520" y="3878280"/>
            <a:ext cx="720720" cy="647640"/>
            <a:chOff x="236520" y="3878280"/>
            <a:chExt cx="720720" cy="647640"/>
          </a:xfrm>
        </p:grpSpPr>
        <p:pic>
          <p:nvPicPr>
            <p:cNvPr id="131" name="" descr=""/>
            <p:cNvPicPr/>
            <p:nvPr/>
          </p:nvPicPr>
          <p:blipFill>
            <a:blip r:embed="rId9"/>
            <a:stretch/>
          </p:blipFill>
          <p:spPr>
            <a:xfrm>
              <a:off x="236520" y="387828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358560" y="397980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4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22120" y="4830840"/>
            <a:ext cx="720720" cy="647640"/>
            <a:chOff x="222120" y="4830840"/>
            <a:chExt cx="720720" cy="647640"/>
          </a:xfrm>
        </p:grpSpPr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222120" y="4830840"/>
              <a:ext cx="72072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336600" y="4930560"/>
              <a:ext cx="473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굴림"/>
                </a:rPr>
                <a:t>05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1144440" y="765000"/>
            <a:ext cx="7604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We incorparated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HDMI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 connection in DSC (World first). </a:t>
            </a:r>
            <a:r>
              <a:rPr b="1" lang="ko-KR" sz="1800" spc="-1" strike="noStrike">
                <a:solidFill>
                  <a:srgbClr val="ff0000"/>
                </a:solidFill>
                <a:latin typeface="굴림"/>
              </a:rPr>
              <a:t>HDMI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enables you to enjoy high quality image on Digital TV (LCD, PDP, HD TV and so on)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111320" y="4898880"/>
            <a:ext cx="76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Useful remote control and text recognition mode gives more versatility and convenience to photographer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1157400" y="3833640"/>
            <a:ext cx="7662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L85 has full manual function and 16:8 wide mode so that you can enjoy 16:9 images as well as conventional 4:3 images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1995480"/>
            <a:ext cx="760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5x Optical zoom and 2.5” LCD(23k pixels) give you satisfaction of Photography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1116000" y="2881440"/>
            <a:ext cx="760428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L85 supplies advanced movie recording and motioin capure fucntion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Also bundle s/w can make movie album and movie clip for L85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927000" y="1449360"/>
            <a:ext cx="7821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Enjoy higj quality images through Digital TV and multi-media devices.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1800" spc="-1" strike="noStrike">
                <a:solidFill>
                  <a:srgbClr val="ff0066"/>
                </a:solidFill>
                <a:latin typeface="Arial"/>
              </a:rPr>
              <a:t>H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igh </a:t>
            </a:r>
            <a:r>
              <a:rPr b="1" lang="ko-KR" sz="1800" spc="-1" strike="noStrike">
                <a:solidFill>
                  <a:srgbClr val="ff0066"/>
                </a:solidFill>
                <a:latin typeface="Arial"/>
              </a:rPr>
              <a:t>D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efinition </a:t>
            </a:r>
            <a:r>
              <a:rPr b="1" lang="ko-KR" sz="18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ultimedia </a:t>
            </a:r>
            <a:r>
              <a:rPr b="1" lang="ko-KR" sz="1800" spc="-1" strike="noStrike">
                <a:solidFill>
                  <a:srgbClr val="ff0066"/>
                </a:solidFill>
                <a:latin typeface="Arial"/>
              </a:rPr>
              <a:t>I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nterfac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42920" y="4287960"/>
            <a:ext cx="4392720" cy="1865160"/>
            <a:chOff x="1042920" y="4287960"/>
            <a:chExt cx="4392720" cy="1865160"/>
          </a:xfrm>
        </p:grpSpPr>
        <p:pic>
          <p:nvPicPr>
            <p:cNvPr id="144" name="" descr=""/>
            <p:cNvPicPr/>
            <p:nvPr/>
          </p:nvPicPr>
          <p:blipFill>
            <a:blip r:embed="rId2"/>
            <a:stretch/>
          </p:blipFill>
          <p:spPr>
            <a:xfrm>
              <a:off x="1042920" y="4287960"/>
              <a:ext cx="2808360" cy="18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3851280" y="471348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99"/>
                  </a:solidFill>
                  <a:latin typeface="굴림"/>
                </a:rPr>
                <a:t>HDMI connection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924360" y="4495680"/>
              <a:ext cx="431640" cy="217800"/>
            </a:xfrm>
            <a:prstGeom prst="leftArrow">
              <a:avLst>
                <a:gd name="adj1" fmla="val 50000"/>
                <a:gd name="adj2" fmla="val 49545"/>
              </a:avLst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971640" y="3692520"/>
            <a:ext cx="7921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HDMI connection enables to deliver more image data than av cable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87280" y="2349360"/>
            <a:ext cx="6899400" cy="1544400"/>
            <a:chOff x="1187280" y="2349360"/>
            <a:chExt cx="6899400" cy="1544400"/>
          </a:xfrm>
        </p:grpSpPr>
        <p:sp>
          <p:nvSpPr>
            <p:cNvPr id="149" name=""/>
            <p:cNvSpPr/>
            <p:nvPr/>
          </p:nvSpPr>
          <p:spPr>
            <a:xfrm>
              <a:off x="2124000" y="3070080"/>
              <a:ext cx="1511280" cy="563760"/>
            </a:xfrm>
            <a:custGeom>
              <a:avLst/>
              <a:gdLst/>
              <a:ahLst/>
              <a:rect l="l" t="t" r="r" b="b"/>
              <a:pathLst>
                <a:path w="952" h="355">
                  <a:moveTo>
                    <a:pt x="0" y="355"/>
                  </a:moveTo>
                  <a:cubicBezTo>
                    <a:pt x="215" y="215"/>
                    <a:pt x="430" y="76"/>
                    <a:pt x="589" y="38"/>
                  </a:cubicBezTo>
                  <a:cubicBezTo>
                    <a:pt x="748" y="0"/>
                    <a:pt x="892" y="114"/>
                    <a:pt x="952" y="129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1187280" y="2819160"/>
              <a:ext cx="1727280" cy="987480"/>
              <a:chOff x="1187280" y="2819160"/>
              <a:chExt cx="1727280" cy="987480"/>
            </a:xfrm>
          </p:grpSpPr>
          <p:pic>
            <p:nvPicPr>
              <p:cNvPr id="1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87280" y="2819160"/>
                <a:ext cx="1727280" cy="98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1403280" y="3078000"/>
                <a:ext cx="792360" cy="591840"/>
              </a:xfrm>
              <a:prstGeom prst="rect">
                <a:avLst/>
              </a:prstGeom>
              <a:ln w="9360">
                <a:solidFill>
                  <a:srgbClr val="333333"/>
                </a:solidFill>
                <a:miter/>
              </a:ln>
            </p:spPr>
          </p:pic>
        </p:grpSp>
        <p:grpSp>
          <p:nvGrpSpPr>
            <p:cNvPr id="153" name=""/>
            <p:cNvGrpSpPr/>
            <p:nvPr/>
          </p:nvGrpSpPr>
          <p:grpSpPr>
            <a:xfrm>
              <a:off x="5494320" y="2349360"/>
              <a:ext cx="2592360" cy="1544400"/>
              <a:chOff x="5494320" y="2349360"/>
              <a:chExt cx="2592360" cy="1544400"/>
            </a:xfrm>
          </p:grpSpPr>
          <p:pic>
            <p:nvPicPr>
              <p:cNvPr id="15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494320" y="2349360"/>
                <a:ext cx="2592360" cy="1544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896080" y="2491920"/>
                <a:ext cx="1814400" cy="1036800"/>
              </a:xfrm>
              <a:prstGeom prst="rect">
                <a:avLst/>
              </a:prstGeom>
              <a:ln w="9360">
                <a:solidFill>
                  <a:srgbClr val="333333"/>
                </a:solidFill>
                <a:miter/>
              </a:ln>
            </p:spPr>
          </p:pic>
        </p:grpSp>
        <p:grpSp>
          <p:nvGrpSpPr>
            <p:cNvPr id="156" name=""/>
            <p:cNvGrpSpPr/>
            <p:nvPr/>
          </p:nvGrpSpPr>
          <p:grpSpPr>
            <a:xfrm>
              <a:off x="3635280" y="2479680"/>
              <a:ext cx="1543680" cy="1309680"/>
              <a:chOff x="3635280" y="2479680"/>
              <a:chExt cx="1543680" cy="1309680"/>
            </a:xfrm>
          </p:grpSpPr>
          <p:sp>
            <p:nvSpPr>
              <p:cNvPr id="157" name=""/>
              <p:cNvSpPr/>
              <p:nvPr/>
            </p:nvSpPr>
            <p:spPr>
              <a:xfrm>
                <a:off x="3635280" y="2708280"/>
                <a:ext cx="1079640" cy="1081080"/>
              </a:xfrm>
              <a:prstGeom prst="ellipse">
                <a:avLst/>
              </a:prstGeom>
              <a:solidFill>
                <a:srgbClr val="ffffff"/>
              </a:solidFill>
              <a:ln w="22320">
                <a:solidFill>
                  <a:srgbClr val="c0c0c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7"/>
              <a:srcRect l="12418" t="0" r="0" b="0"/>
              <a:stretch/>
            </p:blipFill>
            <p:spPr>
              <a:xfrm>
                <a:off x="3765600" y="2867040"/>
                <a:ext cx="1008000" cy="82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4490640" y="2479680"/>
                <a:ext cx="6883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굴림"/>
                  </a:rPr>
                  <a:t>HDMI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99"/>
                    </a:solidFill>
                    <a:latin typeface="굴림"/>
                  </a:rPr>
                  <a:t>cable</a:t>
                </a:r>
                <a:endParaRPr b="0" lang="en-US" sz="1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 rot="10800000">
              <a:off x="4643280" y="3357360"/>
              <a:ext cx="936720" cy="216000"/>
            </a:xfrm>
            <a:custGeom>
              <a:avLst/>
              <a:gdLst/>
              <a:ahLst/>
              <a:rect l="l" t="t" r="r" b="b"/>
              <a:pathLst>
                <a:path w="952" h="355">
                  <a:moveTo>
                    <a:pt x="0" y="355"/>
                  </a:moveTo>
                  <a:cubicBezTo>
                    <a:pt x="215" y="215"/>
                    <a:pt x="430" y="76"/>
                    <a:pt x="589" y="38"/>
                  </a:cubicBezTo>
                  <a:cubicBezTo>
                    <a:pt x="748" y="0"/>
                    <a:pt x="892" y="114"/>
                    <a:pt x="952" y="129"/>
                  </a:cubicBezTo>
                </a:path>
              </a:pathLst>
            </a:custGeom>
            <a:noFill/>
            <a:ln w="255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51280" y="4273560"/>
            <a:ext cx="4465800" cy="1892160"/>
            <a:chOff x="3851280" y="4273560"/>
            <a:chExt cx="4465800" cy="1892160"/>
          </a:xfrm>
        </p:grpSpPr>
        <p:pic>
          <p:nvPicPr>
            <p:cNvPr id="162" name="" descr=""/>
            <p:cNvPicPr/>
            <p:nvPr/>
          </p:nvPicPr>
          <p:blipFill>
            <a:blip r:embed="rId8"/>
            <a:stretch/>
          </p:blipFill>
          <p:spPr>
            <a:xfrm>
              <a:off x="5508720" y="4273560"/>
              <a:ext cx="2808360" cy="189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 flipH="1">
              <a:off x="4931640" y="5703840"/>
              <a:ext cx="431640" cy="217440"/>
            </a:xfrm>
            <a:prstGeom prst="leftArrow">
              <a:avLst>
                <a:gd name="adj1" fmla="val 50000"/>
                <a:gd name="adj2" fmla="val 49627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51280" y="5414760"/>
              <a:ext cx="1584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99cc00"/>
                  </a:solidFill>
                  <a:latin typeface="굴림"/>
                </a:rPr>
                <a:t>Analogue connection         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9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HDMI connection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606600" y="1636560"/>
            <a:ext cx="287280" cy="2574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1"/>
          <a:stretch/>
        </p:blipFill>
        <p:spPr>
          <a:xfrm>
            <a:off x="652320" y="3878280"/>
            <a:ext cx="28764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17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74" name="" descr=""/>
            <p:cNvPicPr/>
            <p:nvPr/>
          </p:nvPicPr>
          <p:blipFill>
            <a:blip r:embed="rId12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0240" y="76320"/>
            <a:ext cx="612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HY울릉도L"/>
              </a:rPr>
              <a:t>HDMI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736560"/>
            <a:ext cx="896472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HDMI (</a:t>
            </a:r>
            <a:r>
              <a:rPr b="1" lang="en-US" sz="1800" spc="-1" strike="noStrike">
                <a:solidFill>
                  <a:srgbClr val="ff3300"/>
                </a:solidFill>
                <a:latin typeface="돋움"/>
                <a:ea typeface="돋움"/>
              </a:rPr>
              <a:t>H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igh </a:t>
            </a:r>
            <a:r>
              <a:rPr b="1" lang="en-US" sz="1800" spc="-1" strike="noStrike">
                <a:solidFill>
                  <a:srgbClr val="ff3300"/>
                </a:solidFill>
                <a:latin typeface="돋움"/>
                <a:ea typeface="돋움"/>
              </a:rPr>
              <a:t>D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efinition </a:t>
            </a:r>
            <a:r>
              <a:rPr b="1" lang="en-US" sz="1800" spc="-1" strike="noStrike">
                <a:solidFill>
                  <a:srgbClr val="ff3300"/>
                </a:solidFill>
                <a:latin typeface="돋움"/>
                <a:ea typeface="돋움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ultimedia </a:t>
            </a:r>
            <a:r>
              <a:rPr b="1" lang="en-US" sz="1800" spc="-1" strike="noStrike">
                <a:solidFill>
                  <a:srgbClr val="ff3300"/>
                </a:solidFill>
                <a:latin typeface="돋움"/>
                <a:ea typeface="돋움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돋움"/>
                <a:ea typeface="돋움"/>
              </a:rPr>
              <a:t>nterface) 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he very first Multimedia interface that can transfer full digital Audio/Video without compression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HDMI connection gives interface that transfers Audio/Video source among set top box, DVD player, monitor, digital TV and other digital devices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HDMI supplies advanced high definition Video and Multi Channel Audio in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Single Cable Also it can transfer all 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ATSC HDTV and compatible with 8ch digital Audio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7700" t="20011" r="9225" b="16565"/>
          <a:stretch/>
        </p:blipFill>
        <p:spPr>
          <a:xfrm>
            <a:off x="8317080" y="6554880"/>
            <a:ext cx="739440" cy="2588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763640" y="2924280"/>
            <a:ext cx="5267520" cy="3168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7532" t="10643" r="9150" b="10643"/>
          <a:stretch/>
        </p:blipFill>
        <p:spPr>
          <a:xfrm>
            <a:off x="4859280" y="5157720"/>
            <a:ext cx="1006560" cy="6397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181480" y="5838840"/>
            <a:ext cx="1008360" cy="337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굴림"/>
              </a:rPr>
              <a:t>L85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3132000" y="4581360"/>
            <a:ext cx="1727280" cy="7923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3132000" y="4149360"/>
            <a:ext cx="719280" cy="4316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3851280" y="4149720"/>
            <a:ext cx="216000" cy="1429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3736800" y="5178600"/>
            <a:ext cx="43344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5" name=""/>
          <p:cNvSpPr/>
          <p:nvPr/>
        </p:nvSpPr>
        <p:spPr>
          <a:xfrm>
            <a:off x="3767040" y="5407200"/>
            <a:ext cx="107964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2124000" y="4610160"/>
            <a:ext cx="107964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3419640" y="5013360"/>
            <a:ext cx="5760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4869000"/>
            <a:ext cx="28728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3119400" y="4818240"/>
            <a:ext cx="184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2230560" y="4869000"/>
            <a:ext cx="1839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HDMI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200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1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203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04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Advanced movi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6"/>
          <a:srcRect l="0" t="36336" r="49180" b="29792"/>
          <a:stretch/>
        </p:blipFill>
        <p:spPr>
          <a:xfrm>
            <a:off x="7093080" y="3112920"/>
            <a:ext cx="1726920" cy="1224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7"/>
          <a:srcRect l="0" t="11452" r="49180" b="64467"/>
          <a:stretch/>
        </p:blipFill>
        <p:spPr>
          <a:xfrm>
            <a:off x="5076720" y="3112920"/>
            <a:ext cx="18003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5076720" y="1427040"/>
            <a:ext cx="1754280" cy="1440000"/>
            <a:chOff x="5076720" y="1427040"/>
            <a:chExt cx="1754280" cy="1440000"/>
          </a:xfrm>
        </p:grpSpPr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>
              <a:off x="5076720" y="1427040"/>
              <a:ext cx="17542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9"/>
            <a:srcRect l="18474" t="56710" r="8957" b="11805"/>
            <a:stretch/>
          </p:blipFill>
          <p:spPr>
            <a:xfrm>
              <a:off x="5099400" y="2234520"/>
              <a:ext cx="127296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10"/>
            <a:srcRect l="18474" t="56710" r="8957" b="11805"/>
            <a:stretch/>
          </p:blipFill>
          <p:spPr>
            <a:xfrm>
              <a:off x="5516280" y="1767240"/>
              <a:ext cx="127332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"/>
          <p:cNvSpPr/>
          <p:nvPr/>
        </p:nvSpPr>
        <p:spPr>
          <a:xfrm>
            <a:off x="5060880" y="1425600"/>
            <a:ext cx="7048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VG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1"/>
          <a:stretch/>
        </p:blipFill>
        <p:spPr>
          <a:xfrm>
            <a:off x="5707080" y="1927080"/>
            <a:ext cx="577800" cy="433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2"/>
          <a:stretch/>
        </p:blipFill>
        <p:spPr>
          <a:xfrm>
            <a:off x="539640" y="155736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855720" y="1428840"/>
            <a:ext cx="4076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PEG-4, VGA size 30fp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High copression rate : MPEG-4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Bigger size : VGA siz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- Clear movie : 30fp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7097760" y="1427040"/>
            <a:ext cx="1754280" cy="1440000"/>
            <a:chOff x="7097760" y="1427040"/>
            <a:chExt cx="1754280" cy="1440000"/>
          </a:xfrm>
        </p:grpSpPr>
        <p:pic>
          <p:nvPicPr>
            <p:cNvPr id="219" name="" descr=""/>
            <p:cNvPicPr/>
            <p:nvPr/>
          </p:nvPicPr>
          <p:blipFill>
            <a:blip r:embed="rId13"/>
            <a:stretch/>
          </p:blipFill>
          <p:spPr>
            <a:xfrm>
              <a:off x="7097760" y="1427040"/>
              <a:ext cx="1754280" cy="14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" descr=""/>
            <p:cNvPicPr/>
            <p:nvPr/>
          </p:nvPicPr>
          <p:blipFill>
            <a:blip r:embed="rId14"/>
            <a:srcRect l="18474" t="56710" r="8957" b="11805"/>
            <a:stretch/>
          </p:blipFill>
          <p:spPr>
            <a:xfrm>
              <a:off x="7120440" y="2234520"/>
              <a:ext cx="1272960" cy="45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15"/>
            <a:srcRect l="18474" t="56710" r="8957" b="11805"/>
            <a:stretch/>
          </p:blipFill>
          <p:spPr>
            <a:xfrm>
              <a:off x="7537320" y="1767240"/>
              <a:ext cx="127332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2" name=""/>
          <p:cNvSpPr/>
          <p:nvPr/>
        </p:nvSpPr>
        <p:spPr>
          <a:xfrm>
            <a:off x="7079040" y="1425600"/>
            <a:ext cx="5662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G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6"/>
          <a:stretch/>
        </p:blipFill>
        <p:spPr>
          <a:xfrm>
            <a:off x="7369200" y="1720800"/>
            <a:ext cx="1224000" cy="9176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7"/>
          <a:stretch/>
        </p:blipFill>
        <p:spPr>
          <a:xfrm>
            <a:off x="539640" y="314640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841320" y="3006720"/>
            <a:ext cx="407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굴림"/>
              </a:rPr>
              <a:t>5x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optical zoom while recor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easy to emphasize objec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8"/>
          <a:stretch/>
        </p:blipFill>
        <p:spPr>
          <a:xfrm>
            <a:off x="539640" y="458640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41320" y="4551480"/>
            <a:ext cx="445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ovie stabiliz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Shkae reduction whil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movie recording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9"/>
          <a:srcRect l="55544" t="14395" r="6202" b="66140"/>
          <a:stretch/>
        </p:blipFill>
        <p:spPr>
          <a:xfrm>
            <a:off x="7020000" y="4581360"/>
            <a:ext cx="1807920" cy="149868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0"/>
          <a:srcRect l="4927" t="11887" r="56820" b="66076"/>
          <a:stretch/>
        </p:blipFill>
        <p:spPr>
          <a:xfrm>
            <a:off x="5019840" y="4378320"/>
            <a:ext cx="18716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12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" dur="1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235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238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0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6"/>
          <a:stretch/>
        </p:blipFill>
        <p:spPr>
          <a:xfrm>
            <a:off x="539640" y="1442880"/>
            <a:ext cx="287280" cy="2574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826920" y="1413000"/>
            <a:ext cx="60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Ulta high-speed continuous sho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7"/>
          <a:stretch/>
        </p:blipFill>
        <p:spPr>
          <a:xfrm>
            <a:off x="684360" y="2143080"/>
            <a:ext cx="2817720" cy="351792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8"/>
          <a:stretch/>
        </p:blipFill>
        <p:spPr>
          <a:xfrm>
            <a:off x="3565440" y="3645000"/>
            <a:ext cx="4824360" cy="200808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9"/>
          <a:stretch/>
        </p:blipFill>
        <p:spPr>
          <a:xfrm>
            <a:off x="3564000" y="2093760"/>
            <a:ext cx="4897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480" y="56340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496800" y="-28440"/>
            <a:ext cx="4176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굴림"/>
              </a:rPr>
              <a:t>Sales point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rcRect l="0" t="32485" r="0" b="54732"/>
          <a:stretch/>
        </p:blipFill>
        <p:spPr>
          <a:xfrm>
            <a:off x="4140360" y="28440"/>
            <a:ext cx="4917960" cy="471600"/>
          </a:xfrm>
          <a:prstGeom prst="rect">
            <a:avLst/>
          </a:prstGeom>
          <a:ln w="0">
            <a:noFill/>
          </a:ln>
        </p:spPr>
      </p:pic>
      <p:grpSp>
        <p:nvGrpSpPr>
          <p:cNvPr id="252" name=""/>
          <p:cNvGrpSpPr/>
          <p:nvPr/>
        </p:nvGrpSpPr>
        <p:grpSpPr>
          <a:xfrm>
            <a:off x="8224920" y="6496200"/>
            <a:ext cx="825480" cy="304560"/>
            <a:chOff x="8224920" y="6496200"/>
            <a:chExt cx="825480" cy="304560"/>
          </a:xfrm>
        </p:grpSpPr>
        <p:sp>
          <p:nvSpPr>
            <p:cNvPr id="253" name=""/>
            <p:cNvSpPr/>
            <p:nvPr/>
          </p:nvSpPr>
          <p:spPr>
            <a:xfrm>
              <a:off x="8343360" y="6597720"/>
              <a:ext cx="590400" cy="100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4" name="" descr=""/>
            <p:cNvPicPr/>
            <p:nvPr/>
          </p:nvPicPr>
          <p:blipFill>
            <a:blip r:embed="rId3"/>
            <a:srcRect l="7700" t="20011" r="9225" b="16565"/>
            <a:stretch/>
          </p:blipFill>
          <p:spPr>
            <a:xfrm>
              <a:off x="8224920" y="6496200"/>
              <a:ext cx="825480" cy="304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5" name=""/>
          <p:cNvGrpSpPr/>
          <p:nvPr/>
        </p:nvGrpSpPr>
        <p:grpSpPr>
          <a:xfrm>
            <a:off x="8201160" y="6496200"/>
            <a:ext cx="869760" cy="290520"/>
            <a:chOff x="8201160" y="6496200"/>
            <a:chExt cx="869760" cy="290520"/>
          </a:xfrm>
        </p:grpSpPr>
        <p:sp>
          <p:nvSpPr>
            <p:cNvPr id="256" name=""/>
            <p:cNvSpPr/>
            <p:nvPr/>
          </p:nvSpPr>
          <p:spPr>
            <a:xfrm>
              <a:off x="8326080" y="6593040"/>
              <a:ext cx="622080" cy="95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4"/>
            <a:srcRect l="7700" t="20011" r="9225" b="16565"/>
            <a:stretch/>
          </p:blipFill>
          <p:spPr>
            <a:xfrm>
              <a:off x="8201160" y="6496200"/>
              <a:ext cx="869760" cy="290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6480" y="6351480"/>
            <a:ext cx="9144000" cy="1018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7240" y="58680"/>
            <a:ext cx="468360" cy="4222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765000"/>
            <a:ext cx="3780000" cy="5763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</a:rPr>
              <a:t>2.5” LCD (230k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6"/>
          <a:stretch/>
        </p:blipFill>
        <p:spPr>
          <a:xfrm>
            <a:off x="539640" y="1557360"/>
            <a:ext cx="287280" cy="2570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55720" y="1428840"/>
            <a:ext cx="4076640" cy="10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Big colour TFT LC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Big 2.5” LCD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굴림"/>
              </a:rPr>
              <a:t>230k pixels delivers more detail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1114560" y="3483000"/>
            <a:ext cx="2447280" cy="1746000"/>
            <a:chOff x="1114560" y="3483000"/>
            <a:chExt cx="2447280" cy="1746000"/>
          </a:xfrm>
        </p:grpSpPr>
        <p:pic>
          <p:nvPicPr>
            <p:cNvPr id="264" name="" descr=""/>
            <p:cNvPicPr/>
            <p:nvPr/>
          </p:nvPicPr>
          <p:blipFill>
            <a:blip r:embed="rId7"/>
            <a:stretch/>
          </p:blipFill>
          <p:spPr>
            <a:xfrm>
              <a:off x="1114560" y="3483000"/>
              <a:ext cx="2447280" cy="17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 flipV="1">
              <a:off x="1161720" y="3537720"/>
              <a:ext cx="2319480" cy="162432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20200" y="4194360"/>
              <a:ext cx="66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.5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5796000" y="3198960"/>
            <a:ext cx="2232000" cy="57600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ikon Coolpix P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” (110K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8" name=""/>
          <p:cNvSpPr/>
          <p:nvPr/>
        </p:nvSpPr>
        <p:spPr>
          <a:xfrm>
            <a:off x="5796000" y="5603760"/>
            <a:ext cx="2232000" cy="5763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non S8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” (115K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69" name="" descr="IMG_5752.JPG"/>
          <p:cNvPicPr/>
          <p:nvPr/>
        </p:nvPicPr>
        <p:blipFill>
          <a:blip r:embed="rId8"/>
          <a:stretch/>
        </p:blipFill>
        <p:spPr>
          <a:xfrm>
            <a:off x="5651640" y="1581120"/>
            <a:ext cx="2449440" cy="1528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9"/>
          <a:stretch/>
        </p:blipFill>
        <p:spPr>
          <a:xfrm>
            <a:off x="2398680" y="3816360"/>
            <a:ext cx="5875200" cy="1676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10"/>
          <a:stretch/>
        </p:blipFill>
        <p:spPr>
          <a:xfrm>
            <a:off x="826920" y="2924280"/>
            <a:ext cx="446436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6T06:27:05Z</dcterms:created>
  <dc:creator>020025</dc:creator>
  <dc:description/>
  <dc:language>en-US</dc:language>
  <cp:lastModifiedBy>L040079</cp:lastModifiedBy>
  <dcterms:modified xsi:type="dcterms:W3CDTF">2006-01-26T09:39:28Z</dcterms:modified>
  <cp:revision>63</cp:revision>
  <dc:subject/>
  <dc:title>슬라이드 1</dc:title>
</cp:coreProperties>
</file>