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5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6094-516A-49F2-877E-4B7805040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E680-5AEF-4A4D-94B5-4A18FD41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43B8-14C4-45FC-AE53-0241B8333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222E-7911-4780-A111-8EE879515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1EFC-C42F-4CC8-B229-FC7A0901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286A-269F-420D-88DE-E6BFAB22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7FAB-B7D1-436B-B1E7-1C645A5C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248C-40BD-4480-B869-7B2C9A02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F1D5-9D2E-4BC7-BC84-1F33B2E4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D74E-FE0C-4030-BAF5-0AB2B7BE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BC3E-E4B1-45A0-81C8-538C4780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228A-932A-487C-B798-B24EDEF7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23AC-577C-4EC1-BAAE-7245A8FF0FE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5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5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390840"/>
            <a:ext cx="9150480" cy="34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ab8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60440" y="2492280"/>
            <a:ext cx="64483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돋움"/>
              </a:rPr>
              <a:t>SAMSUNG CAMER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돋움"/>
              <a:ea typeface="돋움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7700" t="20011" r="9225" b="16565"/>
          <a:stretch/>
        </p:blipFill>
        <p:spPr>
          <a:xfrm>
            <a:off x="122400" y="117360"/>
            <a:ext cx="1064880" cy="406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313440" y="3451320"/>
            <a:ext cx="252792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HY견고딕"/>
                <a:ea typeface="HY견고딕"/>
              </a:rPr>
              <a:t>Digimax L6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8224920" y="6496200"/>
            <a:ext cx="825480" cy="304560"/>
            <a:chOff x="8224920" y="6496200"/>
            <a:chExt cx="825480" cy="304560"/>
          </a:xfrm>
        </p:grpSpPr>
        <p:sp>
          <p:nvSpPr>
            <p:cNvPr id="222" name=""/>
            <p:cNvSpPr/>
            <p:nvPr/>
          </p:nvSpPr>
          <p:spPr>
            <a:xfrm>
              <a:off x="8343360" y="6597720"/>
              <a:ext cx="590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23" name="" descr=""/>
            <p:cNvPicPr/>
            <p:nvPr/>
          </p:nvPicPr>
          <p:blipFill>
            <a:blip r:embed="rId1"/>
            <a:srcRect l="7700" t="20011" r="9225" b="16565"/>
            <a:stretch/>
          </p:blipFill>
          <p:spPr>
            <a:xfrm>
              <a:off x="8224920" y="6496200"/>
              <a:ext cx="82548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4" name=""/>
          <p:cNvGrpSpPr/>
          <p:nvPr/>
        </p:nvGrpSpPr>
        <p:grpSpPr>
          <a:xfrm>
            <a:off x="8201160" y="6496200"/>
            <a:ext cx="869760" cy="290520"/>
            <a:chOff x="8201160" y="6496200"/>
            <a:chExt cx="869760" cy="290520"/>
          </a:xfrm>
        </p:grpSpPr>
        <p:sp>
          <p:nvSpPr>
            <p:cNvPr id="225" name=""/>
            <p:cNvSpPr/>
            <p:nvPr/>
          </p:nvSpPr>
          <p:spPr>
            <a:xfrm>
              <a:off x="8326080" y="6593040"/>
              <a:ext cx="62208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2"/>
            <a:srcRect l="7700" t="20011" r="9225" b="16565"/>
            <a:stretch/>
          </p:blipFill>
          <p:spPr>
            <a:xfrm>
              <a:off x="8201160" y="6496200"/>
              <a:ext cx="869760" cy="2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"/>
          <p:cNvSpPr/>
          <p:nvPr/>
        </p:nvSpPr>
        <p:spPr>
          <a:xfrm>
            <a:off x="825480" y="1400040"/>
            <a:ext cx="7850160" cy="166860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Q:  How many pictures can L60 take with SLB-0837 battery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:  Up to 100Minutes, 200shot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825480" y="3618000"/>
            <a:ext cx="7850160" cy="175572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Q:  How long can L60 record movie clips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:  VGA 30fps – 2 hours and 4 second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QQVGA 15fps – 18 minutes and 11 seconds (in 32MB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1343160"/>
            <a:ext cx="1547640" cy="4316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-7920" y="3573360"/>
            <a:ext cx="1547640" cy="4320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rebuchet MS"/>
                <a:ea typeface="돋움"/>
              </a:rPr>
              <a:t>   </a:t>
            </a:r>
            <a:r>
              <a:rPr b="1" lang="en-US" sz="2400" spc="-1" strike="noStrike">
                <a:solidFill>
                  <a:srgbClr val="b2b2b2"/>
                </a:solidFill>
                <a:latin typeface="Trebuchet MS"/>
                <a:ea typeface="돋움"/>
              </a:rPr>
              <a:t>Q &amp; 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rebuchet MS"/>
                <a:ea typeface="돋움"/>
              </a:rPr>
              <a:t>   </a:t>
            </a:r>
            <a:r>
              <a:rPr b="1" lang="en-US" sz="2400" spc="-1" strike="noStrike">
                <a:solidFill>
                  <a:srgbClr val="b2b2b2"/>
                </a:solidFill>
                <a:latin typeface="Trebuchet MS"/>
                <a:ea typeface="돋움"/>
              </a:rPr>
              <a:t>Digimax L6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8224920" y="6496200"/>
            <a:ext cx="825480" cy="304560"/>
            <a:chOff x="8224920" y="6496200"/>
            <a:chExt cx="825480" cy="304560"/>
          </a:xfrm>
        </p:grpSpPr>
        <p:sp>
          <p:nvSpPr>
            <p:cNvPr id="48" name=""/>
            <p:cNvSpPr/>
            <p:nvPr/>
          </p:nvSpPr>
          <p:spPr>
            <a:xfrm>
              <a:off x="8343360" y="6597720"/>
              <a:ext cx="590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1"/>
            <a:srcRect l="7700" t="20011" r="9225" b="16565"/>
            <a:stretch/>
          </p:blipFill>
          <p:spPr>
            <a:xfrm>
              <a:off x="8224920" y="6496200"/>
              <a:ext cx="82548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"/>
          <p:cNvSpPr/>
          <p:nvPr/>
        </p:nvSpPr>
        <p:spPr>
          <a:xfrm>
            <a:off x="3889440" y="5132520"/>
            <a:ext cx="71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8201160" y="6496200"/>
            <a:ext cx="869760" cy="290520"/>
            <a:chOff x="8201160" y="6496200"/>
            <a:chExt cx="869760" cy="290520"/>
          </a:xfrm>
        </p:grpSpPr>
        <p:sp>
          <p:nvSpPr>
            <p:cNvPr id="52" name=""/>
            <p:cNvSpPr/>
            <p:nvPr/>
          </p:nvSpPr>
          <p:spPr>
            <a:xfrm>
              <a:off x="8326080" y="6593040"/>
              <a:ext cx="62208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2"/>
            <a:srcRect l="7700" t="20011" r="9225" b="16565"/>
            <a:stretch/>
          </p:blipFill>
          <p:spPr>
            <a:xfrm>
              <a:off x="8201160" y="6496200"/>
              <a:ext cx="869760" cy="2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"/>
          <p:cNvSpPr/>
          <p:nvPr/>
        </p:nvSpPr>
        <p:spPr>
          <a:xfrm>
            <a:off x="5064120" y="1989000"/>
            <a:ext cx="4067280" cy="432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Compact Desig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5070600" y="2529000"/>
            <a:ext cx="4066920" cy="43164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Stable Gripp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5068800" y="3059280"/>
            <a:ext cx="4067280" cy="43164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Convenient User Interfac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5064120" y="3573360"/>
            <a:ext cx="4067280" cy="432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Movie and motion pictur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67360" y="4103640"/>
            <a:ext cx="4067280" cy="432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Additional Featur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5068800" y="4627440"/>
            <a:ext cx="4067280" cy="4320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Main Featur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906480"/>
            <a:ext cx="4572000" cy="4586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 concep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5157720"/>
            <a:ext cx="4572000" cy="459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ared to…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5678640"/>
            <a:ext cx="4572000" cy="4586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&amp;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427040"/>
            <a:ext cx="4572000" cy="459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les talk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900000" y="1557360"/>
            <a:ext cx="3046680" cy="2019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971640" y="4005360"/>
            <a:ext cx="304632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0920" y="1557360"/>
            <a:ext cx="8713800" cy="125244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argeting customers’ needs on high image quality and tiny digital camera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remium quality but affordable pri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rebuchet MS"/>
                <a:ea typeface="돋움"/>
              </a:rPr>
              <a:t>   </a:t>
            </a:r>
            <a:r>
              <a:rPr b="1" lang="en-US" sz="2400" spc="-1" strike="noStrike">
                <a:solidFill>
                  <a:srgbClr val="b2b2b2"/>
                </a:solidFill>
                <a:latin typeface="Trebuchet MS"/>
                <a:ea typeface="돋움"/>
              </a:rPr>
              <a:t>Product Concep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8224920" y="6496200"/>
            <a:ext cx="825480" cy="304560"/>
            <a:chOff x="8224920" y="6496200"/>
            <a:chExt cx="825480" cy="304560"/>
          </a:xfrm>
        </p:grpSpPr>
        <p:sp>
          <p:nvSpPr>
            <p:cNvPr id="69" name=""/>
            <p:cNvSpPr/>
            <p:nvPr/>
          </p:nvSpPr>
          <p:spPr>
            <a:xfrm>
              <a:off x="8343360" y="6597720"/>
              <a:ext cx="590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rcRect l="7700" t="20011" r="9225" b="16565"/>
            <a:stretch/>
          </p:blipFill>
          <p:spPr>
            <a:xfrm>
              <a:off x="8224920" y="6496200"/>
              <a:ext cx="82548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"/>
          <p:cNvGrpSpPr/>
          <p:nvPr/>
        </p:nvGrpSpPr>
        <p:grpSpPr>
          <a:xfrm>
            <a:off x="8201160" y="6496200"/>
            <a:ext cx="869760" cy="290520"/>
            <a:chOff x="8201160" y="6496200"/>
            <a:chExt cx="869760" cy="290520"/>
          </a:xfrm>
        </p:grpSpPr>
        <p:sp>
          <p:nvSpPr>
            <p:cNvPr id="72" name=""/>
            <p:cNvSpPr/>
            <p:nvPr/>
          </p:nvSpPr>
          <p:spPr>
            <a:xfrm>
              <a:off x="8326080" y="6593040"/>
              <a:ext cx="62208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73" name="" descr=""/>
            <p:cNvPicPr/>
            <p:nvPr/>
          </p:nvPicPr>
          <p:blipFill>
            <a:blip r:embed="rId2"/>
            <a:srcRect l="7700" t="20011" r="9225" b="16565"/>
            <a:stretch/>
          </p:blipFill>
          <p:spPr>
            <a:xfrm>
              <a:off x="8201160" y="6496200"/>
              <a:ext cx="869760" cy="290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92120" y="179388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39640" y="4192560"/>
            <a:ext cx="287280" cy="2570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64960" y="3819600"/>
            <a:ext cx="8688600" cy="209844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Who pursues both design and func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Who wants camera easy to use and access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ostly for women who want to take a picture any time anywher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541440" y="474660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552600" y="5300640"/>
            <a:ext cx="287280" cy="257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836640"/>
            <a:ext cx="3780000" cy="504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Idea of product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-6480" y="3162240"/>
            <a:ext cx="3780000" cy="504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r whom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504720" y="2327400"/>
            <a:ext cx="28728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8224920" y="6496200"/>
            <a:ext cx="825480" cy="304560"/>
            <a:chOff x="8224920" y="6496200"/>
            <a:chExt cx="825480" cy="304560"/>
          </a:xfrm>
        </p:grpSpPr>
        <p:sp>
          <p:nvSpPr>
            <p:cNvPr id="83" name=""/>
            <p:cNvSpPr/>
            <p:nvPr/>
          </p:nvSpPr>
          <p:spPr>
            <a:xfrm>
              <a:off x="8343360" y="6597720"/>
              <a:ext cx="590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1"/>
            <a:srcRect l="7700" t="20011" r="9225" b="16565"/>
            <a:stretch/>
          </p:blipFill>
          <p:spPr>
            <a:xfrm>
              <a:off x="8224920" y="6496200"/>
              <a:ext cx="82548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"/>
          <p:cNvGrpSpPr/>
          <p:nvPr/>
        </p:nvGrpSpPr>
        <p:grpSpPr>
          <a:xfrm>
            <a:off x="8201160" y="6496200"/>
            <a:ext cx="869760" cy="290520"/>
            <a:chOff x="8201160" y="6496200"/>
            <a:chExt cx="869760" cy="290520"/>
          </a:xfrm>
        </p:grpSpPr>
        <p:sp>
          <p:nvSpPr>
            <p:cNvPr id="86" name=""/>
            <p:cNvSpPr/>
            <p:nvPr/>
          </p:nvSpPr>
          <p:spPr>
            <a:xfrm>
              <a:off x="8326080" y="6593040"/>
              <a:ext cx="62208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2"/>
            <a:srcRect l="7700" t="20011" r="9225" b="16565"/>
            <a:stretch/>
          </p:blipFill>
          <p:spPr>
            <a:xfrm>
              <a:off x="8201160" y="6496200"/>
              <a:ext cx="869760" cy="2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/>
          <p:nvPr/>
        </p:nvSpPr>
        <p:spPr>
          <a:xfrm>
            <a:off x="1042920" y="920880"/>
            <a:ext cx="7850160" cy="77940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ower Movie Clip (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3X Optical Zoom,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PEG-4, VGA 30fps &amp; Edit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2001960"/>
            <a:ext cx="7850160" cy="77940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2.4” TFT LCD can deliver more detail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1042920" y="3083040"/>
            <a:ext cx="7850160" cy="77940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luminum Body in three Colors, Red, Sliver and Blac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1057320" y="4235400"/>
            <a:ext cx="7850160" cy="77796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oice Recording (Memory &amp; Battery capacity dependant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oice Memo in Still Image (Max. 10 sec.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5342040"/>
            <a:ext cx="7850160" cy="77940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 &amp; E Button for Easy Interfa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10960" y="936720"/>
            <a:ext cx="831960" cy="860760"/>
            <a:chOff x="210960" y="936720"/>
            <a:chExt cx="831960" cy="860760"/>
          </a:xfrm>
        </p:grpSpPr>
        <p:pic>
          <p:nvPicPr>
            <p:cNvPr id="94" name="" descr=""/>
            <p:cNvPicPr/>
            <p:nvPr/>
          </p:nvPicPr>
          <p:blipFill>
            <a:blip r:embed="rId3"/>
            <a:stretch/>
          </p:blipFill>
          <p:spPr>
            <a:xfrm>
              <a:off x="210960" y="936720"/>
              <a:ext cx="83196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395280" y="1093680"/>
              <a:ext cx="469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rebuchet MS"/>
                <a:ea typeface="돋움"/>
              </a:rPr>
              <a:t>   </a:t>
            </a:r>
            <a:r>
              <a:rPr b="1" lang="en-US" sz="2400" spc="-1" strike="noStrike">
                <a:solidFill>
                  <a:srgbClr val="b2b2b2"/>
                </a:solidFill>
                <a:latin typeface="Trebuchet MS"/>
                <a:ea typeface="돋움"/>
              </a:rPr>
              <a:t>Sales Talk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10960" y="2060640"/>
            <a:ext cx="831960" cy="860760"/>
            <a:chOff x="210960" y="2060640"/>
            <a:chExt cx="831960" cy="860760"/>
          </a:xfrm>
        </p:grpSpPr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210960" y="2060640"/>
              <a:ext cx="83196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95280" y="2217600"/>
              <a:ext cx="469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10960" y="3141720"/>
            <a:ext cx="831960" cy="860760"/>
            <a:chOff x="210960" y="3141720"/>
            <a:chExt cx="831960" cy="860760"/>
          </a:xfrm>
        </p:grpSpPr>
        <p:pic>
          <p:nvPicPr>
            <p:cNvPr id="101" name="" descr=""/>
            <p:cNvPicPr/>
            <p:nvPr/>
          </p:nvPicPr>
          <p:blipFill>
            <a:blip r:embed="rId5"/>
            <a:stretch/>
          </p:blipFill>
          <p:spPr>
            <a:xfrm>
              <a:off x="210960" y="3141720"/>
              <a:ext cx="83196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395280" y="3298680"/>
              <a:ext cx="469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10960" y="4292640"/>
            <a:ext cx="831960" cy="860760"/>
            <a:chOff x="210960" y="4292640"/>
            <a:chExt cx="831960" cy="860760"/>
          </a:xfrm>
        </p:grpSpPr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210960" y="4292640"/>
              <a:ext cx="83196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395280" y="4449600"/>
              <a:ext cx="469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04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10960" y="5373720"/>
            <a:ext cx="831960" cy="860760"/>
            <a:chOff x="210960" y="5373720"/>
            <a:chExt cx="831960" cy="860760"/>
          </a:xfrm>
        </p:grpSpPr>
        <p:pic>
          <p:nvPicPr>
            <p:cNvPr id="107" name="" descr=""/>
            <p:cNvPicPr/>
            <p:nvPr/>
          </p:nvPicPr>
          <p:blipFill>
            <a:blip r:embed="rId7"/>
            <a:stretch/>
          </p:blipFill>
          <p:spPr>
            <a:xfrm>
              <a:off x="210960" y="5373720"/>
              <a:ext cx="83196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395280" y="5530680"/>
              <a:ext cx="469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05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8224920" y="6496200"/>
            <a:ext cx="825480" cy="304560"/>
            <a:chOff x="8224920" y="6496200"/>
            <a:chExt cx="825480" cy="304560"/>
          </a:xfrm>
        </p:grpSpPr>
        <p:sp>
          <p:nvSpPr>
            <p:cNvPr id="110" name=""/>
            <p:cNvSpPr/>
            <p:nvPr/>
          </p:nvSpPr>
          <p:spPr>
            <a:xfrm>
              <a:off x="8343360" y="6597720"/>
              <a:ext cx="590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rcRect l="7700" t="20011" r="9225" b="16565"/>
            <a:stretch/>
          </p:blipFill>
          <p:spPr>
            <a:xfrm>
              <a:off x="8224920" y="6496200"/>
              <a:ext cx="82548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8201160" y="6496200"/>
            <a:ext cx="869760" cy="290520"/>
            <a:chOff x="8201160" y="6496200"/>
            <a:chExt cx="869760" cy="290520"/>
          </a:xfrm>
        </p:grpSpPr>
        <p:sp>
          <p:nvSpPr>
            <p:cNvPr id="113" name=""/>
            <p:cNvSpPr/>
            <p:nvPr/>
          </p:nvSpPr>
          <p:spPr>
            <a:xfrm>
              <a:off x="8326080" y="6593040"/>
              <a:ext cx="62208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2"/>
            <a:srcRect l="7700" t="20011" r="9225" b="16565"/>
            <a:stretch/>
          </p:blipFill>
          <p:spPr>
            <a:xfrm>
              <a:off x="8201160" y="6496200"/>
              <a:ext cx="869760" cy="2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"/>
          <p:cNvSpPr/>
          <p:nvPr/>
        </p:nvSpPr>
        <p:spPr>
          <a:xfrm>
            <a:off x="6480" y="635148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39640" y="1442880"/>
            <a:ext cx="287280" cy="2574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26920" y="1413000"/>
            <a:ext cx="605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Compact Design Using </a:t>
            </a:r>
            <a:r>
              <a:rPr b="1" lang="en-US" sz="1600" spc="-1" strike="noStrike">
                <a:solidFill>
                  <a:srgbClr val="333300"/>
                </a:solidFill>
                <a:latin typeface="Trebuchet MS"/>
              </a:rPr>
              <a:t>Aluminum Materia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892080"/>
            <a:ext cx="4572000" cy="44928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ompact Design &amp; Stable Gri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588000" y="2060640"/>
            <a:ext cx="1613160" cy="15825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618800" y="5743440"/>
            <a:ext cx="735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00"/>
                </a:solidFill>
                <a:uFillTx/>
                <a:latin typeface="Trebuchet MS"/>
              </a:rPr>
              <a:t>20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557760" y="3768840"/>
            <a:ext cx="18723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00"/>
                </a:solidFill>
                <a:uFillTx/>
                <a:latin typeface="Trebuchet MS"/>
              </a:rPr>
              <a:t>Enhanced Gripp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6588000" y="4076640"/>
            <a:ext cx="1685880" cy="15638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6527160" y="5699160"/>
            <a:ext cx="19746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00"/>
                </a:solidFill>
                <a:uFillTx/>
                <a:latin typeface="Trebuchet MS"/>
              </a:rPr>
              <a:t>Special Strap Hold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539640" y="1798560"/>
            <a:ext cx="287280" cy="257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26920" y="1768320"/>
            <a:ext cx="605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ophisticated Design – Grip Part and Strap Holde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1042920" y="2276640"/>
            <a:ext cx="4608720" cy="3294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rebuchet MS"/>
                <a:ea typeface="돋움"/>
              </a:rPr>
              <a:t>   </a:t>
            </a:r>
            <a:r>
              <a:rPr b="1" lang="en-US" sz="2400" spc="-1" strike="noStrike">
                <a:solidFill>
                  <a:srgbClr val="b2b2b2"/>
                </a:solidFill>
                <a:latin typeface="Trebuchet MS"/>
                <a:ea typeface="돋움"/>
              </a:rPr>
              <a:t>Sales Points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788000" y="3816000"/>
            <a:ext cx="447480" cy="26028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4799160" y="3141720"/>
            <a:ext cx="0" cy="252900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5219640" y="2997360"/>
            <a:ext cx="0" cy="267336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4000" y="1955880"/>
            <a:ext cx="4464000" cy="3133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356000" y="3319560"/>
            <a:ext cx="446400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8224920" y="6496200"/>
            <a:ext cx="825480" cy="304560"/>
            <a:chOff x="8224920" y="6496200"/>
            <a:chExt cx="825480" cy="304560"/>
          </a:xfrm>
        </p:grpSpPr>
        <p:sp>
          <p:nvSpPr>
            <p:cNvPr id="134" name=""/>
            <p:cNvSpPr/>
            <p:nvPr/>
          </p:nvSpPr>
          <p:spPr>
            <a:xfrm>
              <a:off x="8343360" y="6597720"/>
              <a:ext cx="590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3"/>
            <a:srcRect l="7700" t="20011" r="9225" b="16565"/>
            <a:stretch/>
          </p:blipFill>
          <p:spPr>
            <a:xfrm>
              <a:off x="8224920" y="6496200"/>
              <a:ext cx="82548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" name=""/>
          <p:cNvGrpSpPr/>
          <p:nvPr/>
        </p:nvGrpSpPr>
        <p:grpSpPr>
          <a:xfrm>
            <a:off x="8201160" y="6496200"/>
            <a:ext cx="869760" cy="290520"/>
            <a:chOff x="8201160" y="6496200"/>
            <a:chExt cx="869760" cy="290520"/>
          </a:xfrm>
        </p:grpSpPr>
        <p:sp>
          <p:nvSpPr>
            <p:cNvPr id="137" name=""/>
            <p:cNvSpPr/>
            <p:nvPr/>
          </p:nvSpPr>
          <p:spPr>
            <a:xfrm>
              <a:off x="8326080" y="6593040"/>
              <a:ext cx="62208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38" name="" descr=""/>
            <p:cNvPicPr/>
            <p:nvPr/>
          </p:nvPicPr>
          <p:blipFill>
            <a:blip r:embed="rId4"/>
            <a:srcRect l="7700" t="20011" r="9225" b="16565"/>
            <a:stretch/>
          </p:blipFill>
          <p:spPr>
            <a:xfrm>
              <a:off x="8201160" y="6496200"/>
              <a:ext cx="869760" cy="2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"/>
          <p:cNvSpPr/>
          <p:nvPr/>
        </p:nvSpPr>
        <p:spPr>
          <a:xfrm>
            <a:off x="6480" y="635148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539640" y="1442880"/>
            <a:ext cx="287280" cy="2574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826920" y="1413000"/>
            <a:ext cx="605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M &amp; E Button for Easy Interfac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905040"/>
            <a:ext cx="4859280" cy="4363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onvenient User Interfac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539640" y="1803240"/>
            <a:ext cx="287280" cy="257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826920" y="1773360"/>
            <a:ext cx="669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M-button for Changing Modes and E-button for Choosing Effect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3146400" y="2766960"/>
            <a:ext cx="433440" cy="4176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1042920" y="2795760"/>
            <a:ext cx="1944720" cy="1430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7178760" y="4422600"/>
            <a:ext cx="433440" cy="41760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1547640" y="4724280"/>
            <a:ext cx="2592720" cy="1441440"/>
          </a:xfrm>
          <a:prstGeom prst="wedgeRoundRectCallout">
            <a:avLst>
              <a:gd name="adj1" fmla="val 25078"/>
              <a:gd name="adj2" fmla="val -159689"/>
              <a:gd name="adj3" fmla="val 16667"/>
            </a:avLst>
          </a:prstGeom>
          <a:solidFill>
            <a:srgbClr val="eaeaea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[Modes]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Movie Cli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Portrai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Night scene/ Slow sync flash for natural image …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5018040" y="4105440"/>
            <a:ext cx="2089080" cy="1566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364000" y="2133720"/>
            <a:ext cx="2664000" cy="1582560"/>
          </a:xfrm>
          <a:prstGeom prst="wedgeRoundRectCallout">
            <a:avLst>
              <a:gd name="adj1" fmla="val 33731"/>
              <a:gd name="adj2" fmla="val 99046"/>
              <a:gd name="adj3" fmla="val 16667"/>
            </a:avLst>
          </a:prstGeom>
          <a:solidFill>
            <a:srgbClr val="eaeaea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[Effects]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Color effect (6 type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Highlight (4 type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Composition shot (4 type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Photo Frame (9 type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rebuchet MS"/>
                <a:ea typeface="돋움"/>
              </a:rPr>
              <a:t>   </a:t>
            </a:r>
            <a:r>
              <a:rPr b="1" lang="en-US" sz="2400" spc="-1" strike="noStrike">
                <a:solidFill>
                  <a:srgbClr val="b2b2b2"/>
                </a:solidFill>
                <a:latin typeface="Trebuchet MS"/>
                <a:ea typeface="돋움"/>
              </a:rPr>
              <a:t>Sales Points 2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8224920" y="6496200"/>
            <a:ext cx="825480" cy="304560"/>
            <a:chOff x="8224920" y="6496200"/>
            <a:chExt cx="825480" cy="304560"/>
          </a:xfrm>
        </p:grpSpPr>
        <p:sp>
          <p:nvSpPr>
            <p:cNvPr id="153" name=""/>
            <p:cNvSpPr/>
            <p:nvPr/>
          </p:nvSpPr>
          <p:spPr>
            <a:xfrm>
              <a:off x="8343360" y="6597720"/>
              <a:ext cx="590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1"/>
            <a:srcRect l="7700" t="20011" r="9225" b="16565"/>
            <a:stretch/>
          </p:blipFill>
          <p:spPr>
            <a:xfrm>
              <a:off x="8224920" y="6496200"/>
              <a:ext cx="82548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"/>
          <p:cNvGrpSpPr/>
          <p:nvPr/>
        </p:nvGrpSpPr>
        <p:grpSpPr>
          <a:xfrm>
            <a:off x="8201160" y="6496200"/>
            <a:ext cx="869760" cy="290520"/>
            <a:chOff x="8201160" y="6496200"/>
            <a:chExt cx="869760" cy="290520"/>
          </a:xfrm>
        </p:grpSpPr>
        <p:sp>
          <p:nvSpPr>
            <p:cNvPr id="156" name=""/>
            <p:cNvSpPr/>
            <p:nvPr/>
          </p:nvSpPr>
          <p:spPr>
            <a:xfrm>
              <a:off x="8326080" y="6593040"/>
              <a:ext cx="62208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2"/>
            <a:srcRect l="7700" t="20011" r="9225" b="16565"/>
            <a:stretch/>
          </p:blipFill>
          <p:spPr>
            <a:xfrm>
              <a:off x="8201160" y="6496200"/>
              <a:ext cx="869760" cy="2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"/>
          <p:cNvSpPr/>
          <p:nvPr/>
        </p:nvSpPr>
        <p:spPr>
          <a:xfrm>
            <a:off x="6480" y="635148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rcRect l="0" t="36336" r="49180" b="29792"/>
          <a:stretch/>
        </p:blipFill>
        <p:spPr>
          <a:xfrm>
            <a:off x="7093080" y="3112920"/>
            <a:ext cx="1726920" cy="1224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rcRect l="0" t="11452" r="49180" b="64467"/>
          <a:stretch/>
        </p:blipFill>
        <p:spPr>
          <a:xfrm>
            <a:off x="5076720" y="3112920"/>
            <a:ext cx="1800360" cy="122400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5076720" y="1427040"/>
            <a:ext cx="1754280" cy="1440000"/>
            <a:chOff x="5076720" y="1427040"/>
            <a:chExt cx="1754280" cy="1440000"/>
          </a:xfrm>
        </p:grpSpPr>
        <p:pic>
          <p:nvPicPr>
            <p:cNvPr id="162" name="" descr=""/>
            <p:cNvPicPr/>
            <p:nvPr/>
          </p:nvPicPr>
          <p:blipFill>
            <a:blip r:embed="rId5"/>
            <a:stretch/>
          </p:blipFill>
          <p:spPr>
            <a:xfrm>
              <a:off x="5076720" y="1427040"/>
              <a:ext cx="175428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6"/>
            <a:srcRect l="18474" t="56710" r="8957" b="11805"/>
            <a:stretch/>
          </p:blipFill>
          <p:spPr>
            <a:xfrm>
              <a:off x="5099400" y="2234520"/>
              <a:ext cx="1272960" cy="45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7"/>
            <a:srcRect l="18474" t="56710" r="8957" b="11805"/>
            <a:stretch/>
          </p:blipFill>
          <p:spPr>
            <a:xfrm>
              <a:off x="5516280" y="1767240"/>
              <a:ext cx="1273320" cy="45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"/>
          <p:cNvSpPr/>
          <p:nvPr/>
        </p:nvSpPr>
        <p:spPr>
          <a:xfrm>
            <a:off x="5060880" y="1425600"/>
            <a:ext cx="70488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VG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5707080" y="1927080"/>
            <a:ext cx="577800" cy="4334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9"/>
          <a:stretch/>
        </p:blipFill>
        <p:spPr>
          <a:xfrm>
            <a:off x="539640" y="1623960"/>
            <a:ext cx="287280" cy="25740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7097760" y="1427040"/>
            <a:ext cx="1754280" cy="1440000"/>
            <a:chOff x="7097760" y="1427040"/>
            <a:chExt cx="1754280" cy="1440000"/>
          </a:xfrm>
        </p:grpSpPr>
        <p:pic>
          <p:nvPicPr>
            <p:cNvPr id="169" name="" descr=""/>
            <p:cNvPicPr/>
            <p:nvPr/>
          </p:nvPicPr>
          <p:blipFill>
            <a:blip r:embed="rId10"/>
            <a:stretch/>
          </p:blipFill>
          <p:spPr>
            <a:xfrm>
              <a:off x="7097760" y="1427040"/>
              <a:ext cx="175428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11"/>
            <a:srcRect l="18474" t="56710" r="8957" b="11805"/>
            <a:stretch/>
          </p:blipFill>
          <p:spPr>
            <a:xfrm>
              <a:off x="7120440" y="2234520"/>
              <a:ext cx="1272960" cy="45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12"/>
            <a:srcRect l="18474" t="56710" r="8957" b="11805"/>
            <a:stretch/>
          </p:blipFill>
          <p:spPr>
            <a:xfrm>
              <a:off x="7537320" y="1767240"/>
              <a:ext cx="1273320" cy="45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"/>
          <p:cNvSpPr/>
          <p:nvPr/>
        </p:nvSpPr>
        <p:spPr>
          <a:xfrm>
            <a:off x="7079040" y="1425600"/>
            <a:ext cx="56628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G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3"/>
          <a:stretch/>
        </p:blipFill>
        <p:spPr>
          <a:xfrm>
            <a:off x="7369200" y="172080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4"/>
          <a:stretch/>
        </p:blipFill>
        <p:spPr>
          <a:xfrm>
            <a:off x="539640" y="321300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5"/>
          <a:stretch/>
        </p:blipFill>
        <p:spPr>
          <a:xfrm>
            <a:off x="539640" y="465300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6"/>
          <a:srcRect l="55544" t="14395" r="6202" b="66140"/>
          <a:stretch/>
        </p:blipFill>
        <p:spPr>
          <a:xfrm>
            <a:off x="7020000" y="4581360"/>
            <a:ext cx="1807920" cy="14986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7"/>
          <a:srcRect l="4927" t="11887" r="56820" b="66076"/>
          <a:stretch/>
        </p:blipFill>
        <p:spPr>
          <a:xfrm>
            <a:off x="5019840" y="4378320"/>
            <a:ext cx="1871640" cy="17287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865080"/>
            <a:ext cx="3924360" cy="47628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dvanced movie cli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rebuchet MS"/>
                <a:ea typeface="돋움"/>
              </a:rPr>
              <a:t>   </a:t>
            </a:r>
            <a:r>
              <a:rPr b="1" lang="en-US" sz="2400" spc="-1" strike="noStrike">
                <a:solidFill>
                  <a:srgbClr val="b2b2b2"/>
                </a:solidFill>
                <a:latin typeface="Trebuchet MS"/>
                <a:ea typeface="돋움"/>
              </a:rPr>
              <a:t>Sales Points 3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855720" y="1509840"/>
            <a:ext cx="40766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MPEG-4, VGA 30fp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High compression rate : MPEG-4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Bigger size : VGA siz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Clear movie : 30fp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841320" y="3087720"/>
            <a:ext cx="407664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3x optical zoom while record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Easy to emphasize objec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841320" y="4556160"/>
            <a:ext cx="407664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Movie stabiliz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Shake Reduction while recordin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8224920" y="6496200"/>
            <a:ext cx="825480" cy="304560"/>
            <a:chOff x="8224920" y="6496200"/>
            <a:chExt cx="825480" cy="304560"/>
          </a:xfrm>
        </p:grpSpPr>
        <p:sp>
          <p:nvSpPr>
            <p:cNvPr id="184" name=""/>
            <p:cNvSpPr/>
            <p:nvPr/>
          </p:nvSpPr>
          <p:spPr>
            <a:xfrm>
              <a:off x="8343360" y="6597720"/>
              <a:ext cx="590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1"/>
            <a:srcRect l="7700" t="20011" r="9225" b="16565"/>
            <a:stretch/>
          </p:blipFill>
          <p:spPr>
            <a:xfrm>
              <a:off x="8224920" y="6496200"/>
              <a:ext cx="82548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6" name=""/>
          <p:cNvGrpSpPr/>
          <p:nvPr/>
        </p:nvGrpSpPr>
        <p:grpSpPr>
          <a:xfrm>
            <a:off x="8201160" y="6496200"/>
            <a:ext cx="869760" cy="290520"/>
            <a:chOff x="8201160" y="6496200"/>
            <a:chExt cx="869760" cy="290520"/>
          </a:xfrm>
        </p:grpSpPr>
        <p:sp>
          <p:nvSpPr>
            <p:cNvPr id="187" name=""/>
            <p:cNvSpPr/>
            <p:nvPr/>
          </p:nvSpPr>
          <p:spPr>
            <a:xfrm>
              <a:off x="8326080" y="6593040"/>
              <a:ext cx="62208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2"/>
            <a:srcRect l="7700" t="20011" r="9225" b="16565"/>
            <a:stretch/>
          </p:blipFill>
          <p:spPr>
            <a:xfrm>
              <a:off x="8201160" y="6496200"/>
              <a:ext cx="869760" cy="2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"/>
          <p:cNvSpPr/>
          <p:nvPr/>
        </p:nvSpPr>
        <p:spPr>
          <a:xfrm>
            <a:off x="0" y="836640"/>
            <a:ext cx="3780000" cy="43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dditional Featur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1042920" y="1484280"/>
            <a:ext cx="7850160" cy="77940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uto Macro (5cm ~ Infinity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1042920" y="4278240"/>
            <a:ext cx="7850160" cy="77940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igimax Master softwar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042920" y="5213520"/>
            <a:ext cx="7850160" cy="77940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ultiple Languages, Colorful GUI, and mor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1042920" y="3341520"/>
            <a:ext cx="7850160" cy="77976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11 kinds of scene mod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rebuchet MS"/>
                <a:ea typeface="돋움"/>
              </a:rPr>
              <a:t>   </a:t>
            </a:r>
            <a:r>
              <a:rPr b="1" lang="en-US" sz="2400" spc="-1" strike="noStrike">
                <a:solidFill>
                  <a:srgbClr val="b2b2b2"/>
                </a:solidFill>
                <a:latin typeface="Trebuchet MS"/>
                <a:ea typeface="돋움"/>
              </a:rPr>
              <a:t>Sales Points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10960" y="1413000"/>
            <a:ext cx="831960" cy="747720"/>
            <a:chOff x="210960" y="1413000"/>
            <a:chExt cx="831960" cy="747720"/>
          </a:xfrm>
        </p:grpSpPr>
        <p:pic>
          <p:nvPicPr>
            <p:cNvPr id="196" name="" descr=""/>
            <p:cNvPicPr/>
            <p:nvPr/>
          </p:nvPicPr>
          <p:blipFill>
            <a:blip r:embed="rId3"/>
            <a:stretch/>
          </p:blipFill>
          <p:spPr>
            <a:xfrm>
              <a:off x="210960" y="1413000"/>
              <a:ext cx="83196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395280" y="1569960"/>
              <a:ext cx="46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210960" y="2421000"/>
            <a:ext cx="831960" cy="747720"/>
            <a:chOff x="210960" y="2421000"/>
            <a:chExt cx="831960" cy="747720"/>
          </a:xfrm>
        </p:grpSpPr>
        <p:pic>
          <p:nvPicPr>
            <p:cNvPr id="199" name="" descr=""/>
            <p:cNvPicPr/>
            <p:nvPr/>
          </p:nvPicPr>
          <p:blipFill>
            <a:blip r:embed="rId4"/>
            <a:stretch/>
          </p:blipFill>
          <p:spPr>
            <a:xfrm>
              <a:off x="210960" y="2421000"/>
              <a:ext cx="83196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95280" y="2577960"/>
              <a:ext cx="46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02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210960" y="3429000"/>
            <a:ext cx="831960" cy="747720"/>
            <a:chOff x="210960" y="3429000"/>
            <a:chExt cx="831960" cy="747720"/>
          </a:xfrm>
        </p:grpSpPr>
        <p:pic>
          <p:nvPicPr>
            <p:cNvPr id="202" name="" descr=""/>
            <p:cNvPicPr/>
            <p:nvPr/>
          </p:nvPicPr>
          <p:blipFill>
            <a:blip r:embed="rId5"/>
            <a:stretch/>
          </p:blipFill>
          <p:spPr>
            <a:xfrm>
              <a:off x="210960" y="3429000"/>
              <a:ext cx="83196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395280" y="3585960"/>
              <a:ext cx="46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03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10960" y="4292640"/>
            <a:ext cx="831960" cy="747720"/>
            <a:chOff x="210960" y="4292640"/>
            <a:chExt cx="831960" cy="747720"/>
          </a:xfrm>
        </p:grpSpPr>
        <p:pic>
          <p:nvPicPr>
            <p:cNvPr id="205" name="" descr=""/>
            <p:cNvPicPr/>
            <p:nvPr/>
          </p:nvPicPr>
          <p:blipFill>
            <a:blip r:embed="rId6"/>
            <a:stretch/>
          </p:blipFill>
          <p:spPr>
            <a:xfrm>
              <a:off x="210960" y="4292640"/>
              <a:ext cx="83196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395280" y="4449600"/>
              <a:ext cx="46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04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210960" y="5229360"/>
            <a:ext cx="831960" cy="747720"/>
            <a:chOff x="210960" y="5229360"/>
            <a:chExt cx="831960" cy="747720"/>
          </a:xfrm>
        </p:grpSpPr>
        <p:pic>
          <p:nvPicPr>
            <p:cNvPr id="208" name="" descr=""/>
            <p:cNvPicPr/>
            <p:nvPr/>
          </p:nvPicPr>
          <p:blipFill>
            <a:blip r:embed="rId7"/>
            <a:stretch/>
          </p:blipFill>
          <p:spPr>
            <a:xfrm>
              <a:off x="210960" y="5229360"/>
              <a:ext cx="83196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395280" y="5386320"/>
              <a:ext cx="46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05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042920" y="2421000"/>
            <a:ext cx="7850160" cy="77940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hot to shot : 1.0(wide) ~ 1.2(tele) se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ontinuous shot : 2 fp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8224920" y="6496200"/>
            <a:ext cx="825480" cy="304560"/>
            <a:chOff x="8224920" y="6496200"/>
            <a:chExt cx="825480" cy="304560"/>
          </a:xfrm>
        </p:grpSpPr>
        <p:sp>
          <p:nvSpPr>
            <p:cNvPr id="212" name=""/>
            <p:cNvSpPr/>
            <p:nvPr/>
          </p:nvSpPr>
          <p:spPr>
            <a:xfrm>
              <a:off x="8343360" y="6597720"/>
              <a:ext cx="590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13" name="" descr=""/>
            <p:cNvPicPr/>
            <p:nvPr/>
          </p:nvPicPr>
          <p:blipFill>
            <a:blip r:embed="rId1"/>
            <a:srcRect l="7700" t="20011" r="9225" b="16565"/>
            <a:stretch/>
          </p:blipFill>
          <p:spPr>
            <a:xfrm>
              <a:off x="8224920" y="6496200"/>
              <a:ext cx="82548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4" name=""/>
          <p:cNvGrpSpPr/>
          <p:nvPr/>
        </p:nvGrpSpPr>
        <p:grpSpPr>
          <a:xfrm>
            <a:off x="8201160" y="6496200"/>
            <a:ext cx="869760" cy="290520"/>
            <a:chOff x="8201160" y="6496200"/>
            <a:chExt cx="869760" cy="290520"/>
          </a:xfrm>
        </p:grpSpPr>
        <p:sp>
          <p:nvSpPr>
            <p:cNvPr id="215" name=""/>
            <p:cNvSpPr/>
            <p:nvPr/>
          </p:nvSpPr>
          <p:spPr>
            <a:xfrm>
              <a:off x="8326080" y="6593040"/>
              <a:ext cx="62208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16" name="" descr=""/>
            <p:cNvPicPr/>
            <p:nvPr/>
          </p:nvPicPr>
          <p:blipFill>
            <a:blip r:embed="rId2"/>
            <a:srcRect l="7700" t="20011" r="9225" b="16565"/>
            <a:stretch/>
          </p:blipFill>
          <p:spPr>
            <a:xfrm>
              <a:off x="8201160" y="6496200"/>
              <a:ext cx="869760" cy="2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" name=""/>
          <p:cNvSpPr/>
          <p:nvPr/>
        </p:nvSpPr>
        <p:spPr>
          <a:xfrm>
            <a:off x="6480" y="635148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68360" y="1484280"/>
          <a:ext cx="8280360" cy="4484880"/>
        </p:xfrm>
        <a:graphic>
          <a:graphicData uri="http://schemas.openxmlformats.org/drawingml/2006/table">
            <a:tbl>
              <a:tblPr/>
              <a:tblGrid>
                <a:gridCol w="1727280"/>
                <a:gridCol w="2184120"/>
                <a:gridCol w="2184480"/>
                <a:gridCol w="2184480"/>
              </a:tblGrid>
              <a:tr h="46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MS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s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e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4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gimax L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X-Z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ptio S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mage Sens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/2.5”CCD, 6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/2.5”CCD, 6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/2.5”CCD, 6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Zo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ptical 3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rebuchet MS"/>
                        </a:rPr>
                        <a:t>Digital 5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ptical 3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gital 4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Optical 3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gital 4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ovie Cl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PEG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JP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PEG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4”(112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0”(84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5”(232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ac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rebuchet MS"/>
                        </a:rPr>
                        <a:t>5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4x52x20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0x60x27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6x54x19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9" name=""/>
          <p:cNvSpPr/>
          <p:nvPr/>
        </p:nvSpPr>
        <p:spPr>
          <a:xfrm>
            <a:off x="0" y="907920"/>
            <a:ext cx="3780000" cy="43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L60 and competitor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rebuchet MS"/>
                <a:ea typeface="돋움"/>
              </a:rPr>
              <a:t>   </a:t>
            </a:r>
            <a:r>
              <a:rPr b="1" lang="en-US" sz="2400" spc="-1" strike="noStrike">
                <a:solidFill>
                  <a:srgbClr val="b2b2b2"/>
                </a:solidFill>
                <a:latin typeface="Trebuchet MS"/>
                <a:ea typeface="돋움"/>
              </a:rPr>
              <a:t>Compare to…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6T06:27:05Z</dcterms:created>
  <dc:creator>020025</dc:creator>
  <dc:description/>
  <dc:language>en-US</dc:language>
  <cp:lastModifiedBy>L040079</cp:lastModifiedBy>
  <dcterms:modified xsi:type="dcterms:W3CDTF">2006-01-27T00:05:06Z</dcterms:modified>
  <cp:revision>76</cp:revision>
  <dc:subject/>
  <dc:title>슬라이드 1</dc:title>
</cp:coreProperties>
</file>