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41.png" ContentType="image/png"/>
  <Override PartName="/ppt/media/image11.png" ContentType="image/png"/>
  <Override PartName="/ppt/media/image46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7.jpeg" ContentType="image/jpeg"/>
  <Override PartName="/ppt/media/image13.png" ContentType="image/png"/>
  <Override PartName="/ppt/media/image40.png" ContentType="image/png"/>
  <Override PartName="/ppt/media/image31.jpeg" ContentType="image/jpeg"/>
  <Override PartName="/ppt/media/image44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525-985B-4F01-B732-5AEAC8CD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911-C8CD-42CC-94D9-6E2B02D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1B8-D4A6-41A2-9C9D-A8A42C58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83C-447F-42EC-85CA-934AC4D7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C61-5EB6-4887-B786-914C293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9E5-B87F-40C6-8DF5-BD9F884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486-DA55-41CD-80CF-4255E51D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CBA-F0A4-4054-A87F-D9EBBC7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52B-483D-4819-A38D-A64E651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290-90A2-425C-A3D9-C502FFA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762-09CB-4ED1-A082-851E045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B80-30C2-4BCF-8589-3594F24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C4AF-7617-47C7-9E9A-204C99F80D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6.jpeg"/><Relationship Id="rId9" Type="http://schemas.openxmlformats.org/officeDocument/2006/relationships/image" Target="../media/image36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9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43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6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0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90840"/>
            <a:ext cx="9150480" cy="34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b8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60440" y="2492280"/>
            <a:ext cx="6448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SAMSUNG CAMER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700" t="20011" r="9225" b="16565"/>
          <a:stretch/>
        </p:blipFill>
        <p:spPr>
          <a:xfrm>
            <a:off x="122400" y="117360"/>
            <a:ext cx="106488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13440" y="3451320"/>
            <a:ext cx="25279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ko-KR" sz="3200" spc="-1" strike="noStrike">
                <a:solidFill>
                  <a:srgbClr val="336699"/>
                </a:solidFill>
                <a:latin typeface="HY견고딕"/>
                <a:ea typeface="HY견고딕"/>
              </a:rPr>
              <a:t>Digimax L8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60520" y="1378080"/>
            <a:ext cx="6459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견고딕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/ S / M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1 type Scene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1280" y="1554120"/>
            <a:ext cx="260280" cy="24912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4643280" y="2649600"/>
            <a:ext cx="4319640" cy="863640"/>
            <a:chOff x="4643280" y="2649600"/>
            <a:chExt cx="4319640" cy="863640"/>
          </a:xfrm>
        </p:grpSpPr>
        <p:sp>
          <p:nvSpPr>
            <p:cNvPr id="276" name=""/>
            <p:cNvSpPr/>
            <p:nvPr/>
          </p:nvSpPr>
          <p:spPr>
            <a:xfrm>
              <a:off x="5146560" y="2936880"/>
              <a:ext cx="3384720" cy="576360"/>
            </a:xfrm>
            <a:custGeom>
              <a:avLst/>
              <a:gdLst>
                <a:gd name="textAreaLeft" fmla="*/ 528840 w 3384720"/>
                <a:gd name="textAreaRight" fmla="*/ 3194280 w 3384720"/>
                <a:gd name="textAreaTop" fmla="*/ 144720 h 576360"/>
                <a:gd name="textAreaBottom" fmla="*/ 4316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24"/>
                  </a:moveTo>
                  <a:lnTo>
                    <a:pt x="19158" y="5424"/>
                  </a:lnTo>
                  <a:lnTo>
                    <a:pt x="19158" y="0"/>
                  </a:lnTo>
                  <a:lnTo>
                    <a:pt x="21600" y="10800"/>
                  </a:lnTo>
                  <a:lnTo>
                    <a:pt x="19158" y="21600"/>
                  </a:lnTo>
                  <a:lnTo>
                    <a:pt x="19158" y="16176"/>
                  </a:lnTo>
                  <a:lnTo>
                    <a:pt x="3375" y="16176"/>
                  </a:lnTo>
                  <a:close/>
                </a:path>
                <a:path w="21600" h="21600">
                  <a:moveTo>
                    <a:pt x="0" y="5424"/>
                  </a:moveTo>
                  <a:lnTo>
                    <a:pt x="675" y="5424"/>
                  </a:lnTo>
                  <a:lnTo>
                    <a:pt x="675" y="16176"/>
                  </a:lnTo>
                  <a:lnTo>
                    <a:pt x="0" y="16176"/>
                  </a:lnTo>
                  <a:close/>
                </a:path>
                <a:path w="21600" h="21600">
                  <a:moveTo>
                    <a:pt x="1350" y="5424"/>
                  </a:moveTo>
                  <a:lnTo>
                    <a:pt x="2700" y="5424"/>
                  </a:lnTo>
                  <a:lnTo>
                    <a:pt x="2700" y="16176"/>
                  </a:lnTo>
                  <a:lnTo>
                    <a:pt x="1350" y="16176"/>
                  </a:lnTo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3280" y="26496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굴림"/>
                </a:rPr>
                <a:t>1/2000 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4920" y="26496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굴림"/>
                </a:rPr>
                <a:t>15 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11280" y="1943280"/>
            <a:ext cx="260280" cy="2491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826920" y="3645000"/>
            <a:ext cx="3311640" cy="718920"/>
            <a:chOff x="826920" y="3645000"/>
            <a:chExt cx="3311640" cy="718920"/>
          </a:xfrm>
        </p:grpSpPr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826920" y="3645000"/>
              <a:ext cx="144000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698920" y="3645000"/>
              <a:ext cx="14396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826920" y="2635200"/>
            <a:ext cx="3384720" cy="1038240"/>
            <a:chOff x="826920" y="2635200"/>
            <a:chExt cx="3384720" cy="1038240"/>
          </a:xfrm>
        </p:grpSpPr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826920" y="2635200"/>
              <a:ext cx="33624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26920" y="3097080"/>
              <a:ext cx="3384720" cy="576360"/>
            </a:xfrm>
            <a:custGeom>
              <a:avLst/>
              <a:gdLst>
                <a:gd name="textAreaLeft" fmla="*/ 528840 w 3384720"/>
                <a:gd name="textAreaRight" fmla="*/ 3194280 w 3384720"/>
                <a:gd name="textAreaTop" fmla="*/ 144720 h 576360"/>
                <a:gd name="textAreaBottom" fmla="*/ 4316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24"/>
                  </a:moveTo>
                  <a:lnTo>
                    <a:pt x="19158" y="5424"/>
                  </a:lnTo>
                  <a:lnTo>
                    <a:pt x="19158" y="0"/>
                  </a:lnTo>
                  <a:lnTo>
                    <a:pt x="21600" y="10800"/>
                  </a:lnTo>
                  <a:lnTo>
                    <a:pt x="19158" y="21600"/>
                  </a:lnTo>
                  <a:lnTo>
                    <a:pt x="19158" y="16176"/>
                  </a:lnTo>
                  <a:lnTo>
                    <a:pt x="3375" y="16176"/>
                  </a:lnTo>
                  <a:close/>
                </a:path>
                <a:path w="21600" h="21600">
                  <a:moveTo>
                    <a:pt x="0" y="5424"/>
                  </a:moveTo>
                  <a:lnTo>
                    <a:pt x="675" y="5424"/>
                  </a:lnTo>
                  <a:lnTo>
                    <a:pt x="675" y="16176"/>
                  </a:lnTo>
                  <a:lnTo>
                    <a:pt x="0" y="16176"/>
                  </a:lnTo>
                  <a:close/>
                </a:path>
                <a:path w="21600" h="21600">
                  <a:moveTo>
                    <a:pt x="1350" y="5424"/>
                  </a:moveTo>
                  <a:lnTo>
                    <a:pt x="2700" y="5424"/>
                  </a:lnTo>
                  <a:lnTo>
                    <a:pt x="2700" y="16176"/>
                  </a:lnTo>
                  <a:lnTo>
                    <a:pt x="1350" y="16176"/>
                  </a:lnTo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굴림"/>
                </a:rPr>
                <a:t>Control Depth of fiel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003640" y="3500280"/>
            <a:ext cx="3714840" cy="691920"/>
            <a:chOff x="5003640" y="3500280"/>
            <a:chExt cx="3714840" cy="691920"/>
          </a:xfrm>
        </p:grpSpPr>
        <p:pic>
          <p:nvPicPr>
            <p:cNvPr id="287" name="" descr=""/>
            <p:cNvPicPr/>
            <p:nvPr/>
          </p:nvPicPr>
          <p:blipFill>
            <a:blip r:embed="rId7"/>
            <a:srcRect l="0" t="0" r="50004" b="55941"/>
            <a:stretch/>
          </p:blipFill>
          <p:spPr>
            <a:xfrm>
              <a:off x="5003640" y="3500280"/>
              <a:ext cx="8636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8"/>
            <a:srcRect l="50004" t="0" r="0" b="55941"/>
            <a:stretch/>
          </p:blipFill>
          <p:spPr>
            <a:xfrm>
              <a:off x="7854840" y="3500280"/>
              <a:ext cx="8636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9"/>
            <a:srcRect l="0" t="49481" r="51232" b="5016"/>
            <a:stretch/>
          </p:blipFill>
          <p:spPr>
            <a:xfrm>
              <a:off x="5940360" y="3500280"/>
              <a:ext cx="8413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0"/>
            <a:srcRect l="51772" t="50005" r="0" b="6461"/>
            <a:stretch/>
          </p:blipFill>
          <p:spPr>
            <a:xfrm>
              <a:off x="6918120" y="3500280"/>
              <a:ext cx="8334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826920" y="220500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A prior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220500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 prior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5076720" y="5072040"/>
            <a:ext cx="3672000" cy="1201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932360" y="4495680"/>
            <a:ext cx="213660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cene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443088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anual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4927680"/>
            <a:ext cx="1700280" cy="1368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Full manual fun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0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ide m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971640" y="1413000"/>
            <a:ext cx="59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You can change image ratio to 16:8 in Wide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91120" y="2823120"/>
            <a:ext cx="1152360" cy="1266120"/>
            <a:chOff x="3291120" y="2823120"/>
            <a:chExt cx="1152360" cy="1266120"/>
          </a:xfrm>
        </p:grpSpPr>
        <p:sp>
          <p:nvSpPr>
            <p:cNvPr id="321" name=""/>
            <p:cNvSpPr/>
            <p:nvPr/>
          </p:nvSpPr>
          <p:spPr>
            <a:xfrm rot="5400000">
              <a:off x="3255120" y="2900880"/>
              <a:ext cx="1224000" cy="115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821800">
              <a:off x="3363480" y="3125160"/>
              <a:ext cx="51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RO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97960" y="3346200"/>
              <a:ext cx="54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Wid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7"/>
            <a:srcRect l="27819" t="57533" r="69515" b="39307"/>
            <a:stretch/>
          </p:blipFill>
          <p:spPr>
            <a:xfrm rot="19770600">
              <a:off x="3489480" y="3658680"/>
              <a:ext cx="2142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8"/>
            <a:srcRect l="63170" t="39026" r="34508" b="57504"/>
            <a:stretch/>
          </p:blipFill>
          <p:spPr>
            <a:xfrm rot="5400000">
              <a:off x="3752640" y="3754080"/>
              <a:ext cx="2620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9"/>
            <a:srcRect l="5910" t="11223" r="2955" b="5675"/>
            <a:stretch/>
          </p:blipFill>
          <p:spPr>
            <a:xfrm rot="13013400">
              <a:off x="4049640" y="3661920"/>
              <a:ext cx="21456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8026800">
              <a:off x="3814560" y="3086640"/>
              <a:ext cx="573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CE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163040" y="3339720"/>
              <a:ext cx="270360" cy="303840"/>
              <a:chOff x="4163040" y="3339720"/>
              <a:chExt cx="270360" cy="303840"/>
            </a:xfrm>
          </p:grpSpPr>
          <p:sp>
            <p:nvSpPr>
              <p:cNvPr id="329" name=""/>
              <p:cNvSpPr/>
              <p:nvPr/>
            </p:nvSpPr>
            <p:spPr>
              <a:xfrm rot="7737600">
                <a:off x="4179960" y="3450600"/>
                <a:ext cx="126360" cy="10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737600">
                <a:off x="4317120" y="3498840"/>
                <a:ext cx="6300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737600">
                <a:off x="4267080" y="3562200"/>
                <a:ext cx="6300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737600">
                <a:off x="4300560" y="3325320"/>
                <a:ext cx="63000" cy="209520"/>
              </a:xfrm>
              <a:custGeom>
                <a:avLst/>
                <a:gdLst/>
                <a:ahLst/>
                <a:rect l="l" t="t" r="r" b="b"/>
                <a:pathLst>
                  <a:path w="91" h="272">
                    <a:moveTo>
                      <a:pt x="0" y="0"/>
                    </a:moveTo>
                    <a:lnTo>
                      <a:pt x="91" y="90"/>
                    </a:lnTo>
                    <a:lnTo>
                      <a:pt x="91" y="226"/>
                    </a:lnTo>
                    <a:lnTo>
                      <a:pt x="0" y="2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 rot="5400000">
              <a:off x="3618720" y="295920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446640" y="4160880"/>
            <a:ext cx="936360" cy="3603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WIDE SHO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4645080" y="331164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395280" y="2746440"/>
            <a:ext cx="2448000" cy="183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3166920" y="3348000"/>
            <a:ext cx="720720" cy="325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4797360"/>
            <a:ext cx="1008000" cy="31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4: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6559560" y="4797360"/>
            <a:ext cx="1008000" cy="31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16: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5651640" y="2637000"/>
            <a:ext cx="2808000" cy="210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>
            <a:off x="5219640" y="4437000"/>
            <a:ext cx="345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2565360"/>
            <a:ext cx="3456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48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51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Remote control (optional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rcRect l="20436" t="0" r="18408" b="0"/>
          <a:stretch/>
        </p:blipFill>
        <p:spPr>
          <a:xfrm>
            <a:off x="6156360" y="2565360"/>
            <a:ext cx="1674720" cy="2736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859280" y="2509920"/>
            <a:ext cx="1006560" cy="558720"/>
          </a:xfrm>
          <a:prstGeom prst="borderCallout1">
            <a:avLst>
              <a:gd name="adj1" fmla="val 43915"/>
              <a:gd name="adj2" fmla="val 24545"/>
              <a:gd name="adj3" fmla="val 2453"/>
              <a:gd name="adj4" fmla="val 24545"/>
            </a:avLst>
          </a:prstGeom>
          <a:solidFill>
            <a:srgbClr val="c0c0c0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hutter Butt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4645080" y="3321000"/>
            <a:ext cx="1295280" cy="343080"/>
          </a:xfrm>
          <a:prstGeom prst="borderCallout1">
            <a:avLst>
              <a:gd name="adj1" fmla="val 32453"/>
              <a:gd name="adj2" fmla="val 26400"/>
              <a:gd name="adj3" fmla="val 1906"/>
              <a:gd name="adj4" fmla="val 264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Zoom-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4789440" y="4116240"/>
            <a:ext cx="1295280" cy="343080"/>
          </a:xfrm>
          <a:prstGeom prst="borderCallout1">
            <a:avLst>
              <a:gd name="adj1" fmla="val 29462"/>
              <a:gd name="adj2" fmla="val 26400"/>
              <a:gd name="adj3" fmla="val 1906"/>
              <a:gd name="adj4" fmla="val 26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Lef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7740720" y="4105440"/>
            <a:ext cx="1295280" cy="342720"/>
          </a:xfrm>
          <a:prstGeom prst="borderCallout1">
            <a:avLst>
              <a:gd name="adj1" fmla="val -6697"/>
              <a:gd name="adj2" fmla="val 26400"/>
              <a:gd name="adj3" fmla="val 19694"/>
              <a:gd name="adj4" fmla="val 26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3446640"/>
            <a:ext cx="1295280" cy="342720"/>
          </a:xfrm>
          <a:prstGeom prst="borderCallout1">
            <a:avLst>
              <a:gd name="adj1" fmla="val -3944"/>
              <a:gd name="adj2" fmla="val 26400"/>
              <a:gd name="adj3" fmla="val 19694"/>
              <a:gd name="adj4" fmla="val 264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Zoom-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5508720" y="5718240"/>
            <a:ext cx="1295280" cy="342720"/>
          </a:xfrm>
          <a:prstGeom prst="borderCallout1">
            <a:avLst>
              <a:gd name="adj1" fmla="val 22871"/>
              <a:gd name="adj2" fmla="val -56700"/>
              <a:gd name="adj3" fmla="val 22871"/>
              <a:gd name="adj4" fmla="val 14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7039080" y="5734080"/>
            <a:ext cx="1295280" cy="342720"/>
          </a:xfrm>
          <a:prstGeom prst="borderCallout1">
            <a:avLst>
              <a:gd name="adj1" fmla="val -1271"/>
              <a:gd name="adj2" fmla="val -95300"/>
              <a:gd name="adj3" fmla="val -1271"/>
              <a:gd name="adj4" fmla="val 14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p/ </a:t>
            </a:r>
            <a:r>
              <a:rPr b="1" lang="en-US" sz="1600" spc="-1" strike="noStrike">
                <a:solidFill>
                  <a:srgbClr val="ff0066"/>
                </a:solidFill>
                <a:latin typeface="굴림"/>
              </a:rPr>
              <a:t>Eff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7058160" y="1844640"/>
            <a:ext cx="1295280" cy="343080"/>
          </a:xfrm>
          <a:prstGeom prst="borderCallout1">
            <a:avLst>
              <a:gd name="adj1" fmla="val -1271"/>
              <a:gd name="adj2" fmla="val 129900"/>
              <a:gd name="adj3" fmla="val -1271"/>
              <a:gd name="adj4" fmla="val 72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enu/O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266920"/>
            <a:ext cx="46800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ful for image display, taking pictures a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ovie recording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It gives more fun to photographers wit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image editing function on remote contro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741240" y="1471680"/>
            <a:ext cx="287640" cy="257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71640" y="1413000"/>
            <a:ext cx="59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Gives more convenience displaying imag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7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7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732720" y="2247840"/>
            <a:ext cx="187164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Understanding the Bush presidency requires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grasping the essential role that Richard Bruce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Cheney continues to play in formulating its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Manichaean view of the world. "He's probably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en as independent and significant a policy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maker as any vice president in our history,"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presidential scholar Robert Dallek told </a:t>
            </a: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U.S.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News.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Some go further. "The power behind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the throne--an </a:t>
            </a: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eminence grise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--that's wha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Dick Cheney has become," says Lawrence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Wilkerson, a Cheney critic who was Secretary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of State Colin Powell's chief of staff. "The real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president of the United States is Dick Cheney."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yond President Bush himself, no one has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en as influential on issues of national sec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urity and executive power. The vice presiden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has not only been a leading architect of the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war in Iraq and the overall war on terrorism;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he has championed the U.S.A. Patriot Ac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(story, Page 30), the controversial legislation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designed to make it easier for law enforcement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to hunt down suspected terrorists. And he has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vigorously promoted domestic spying without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141300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ake images of books, magazines and newspapers and convert it to documnents 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(English, Korean, Russian and Chinese avail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539640" y="19479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26920" y="19400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ke out only text from scanned image and PDF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ext recogni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11240" y="2529000"/>
            <a:ext cx="1011240" cy="1741320"/>
            <a:chOff x="1011240" y="2529000"/>
            <a:chExt cx="1011240" cy="1741320"/>
          </a:xfrm>
        </p:grpSpPr>
        <p:sp>
          <p:nvSpPr>
            <p:cNvPr id="387" name=""/>
            <p:cNvSpPr/>
            <p:nvPr/>
          </p:nvSpPr>
          <p:spPr>
            <a:xfrm>
              <a:off x="1011240" y="252900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굴림"/>
                </a:rPr>
                <a:t>Nespap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11240" y="288756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agazin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11240" y="323388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ook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1240" y="359244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ca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4480" y="395280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DF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140360" y="2492280"/>
            <a:ext cx="1944360" cy="1914480"/>
            <a:chOff x="4140360" y="2492280"/>
            <a:chExt cx="1944360" cy="1914480"/>
          </a:xfrm>
        </p:grpSpPr>
        <p:pic>
          <p:nvPicPr>
            <p:cNvPr id="393" name="" descr=""/>
            <p:cNvPicPr/>
            <p:nvPr/>
          </p:nvPicPr>
          <p:blipFill>
            <a:blip r:embed="rId8"/>
            <a:stretch/>
          </p:blipFill>
          <p:spPr>
            <a:xfrm>
              <a:off x="4140360" y="2492280"/>
              <a:ext cx="19443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636080" y="3004560"/>
              <a:ext cx="991080" cy="128052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0" y="272"/>
                  </a:moveTo>
                  <a:lnTo>
                    <a:pt x="726" y="0"/>
                  </a:lnTo>
                  <a:lnTo>
                    <a:pt x="680" y="544"/>
                  </a:lnTo>
                  <a:lnTo>
                    <a:pt x="45" y="90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9"/>
            <a:stretch/>
          </p:blipFill>
          <p:spPr>
            <a:xfrm rot="20785200">
              <a:off x="4895280" y="3171240"/>
              <a:ext cx="589680" cy="75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6804000" y="4581360"/>
            <a:ext cx="647640" cy="287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7423200" y="4292640"/>
            <a:ext cx="936720" cy="86508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tx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5243040" y="4200480"/>
            <a:ext cx="605880" cy="368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j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0"/>
          <a:srcRect l="1633" t="18232" r="3135" b="15233"/>
          <a:stretch/>
        </p:blipFill>
        <p:spPr>
          <a:xfrm>
            <a:off x="3594240" y="5056200"/>
            <a:ext cx="1366560" cy="95400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3879720" y="5105520"/>
            <a:ext cx="792000" cy="792000"/>
            <a:chOff x="3879720" y="5105520"/>
            <a:chExt cx="792000" cy="792000"/>
          </a:xfrm>
        </p:grpSpPr>
        <p:sp>
          <p:nvSpPr>
            <p:cNvPr id="401" name=""/>
            <p:cNvSpPr/>
            <p:nvPr/>
          </p:nvSpPr>
          <p:spPr>
            <a:xfrm>
              <a:off x="3879720" y="5105520"/>
              <a:ext cx="792000" cy="792000"/>
            </a:xfrm>
            <a:prstGeom prst="ellipse">
              <a:avLst/>
            </a:prstGeom>
            <a:noFill/>
            <a:ln w="60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6840" y="5249520"/>
              <a:ext cx="633600" cy="502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09680" y="5192280"/>
              <a:ext cx="533520" cy="6044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14400" y="4854600"/>
            <a:ext cx="2697120" cy="1222200"/>
            <a:chOff x="914400" y="4854600"/>
            <a:chExt cx="2697120" cy="1222200"/>
          </a:xfrm>
        </p:grpSpPr>
        <p:pic>
          <p:nvPicPr>
            <p:cNvPr id="405" name="" descr=""/>
            <p:cNvPicPr/>
            <p:nvPr/>
          </p:nvPicPr>
          <p:blipFill>
            <a:blip r:embed="rId11"/>
            <a:srcRect l="0" t="27340" r="0" b="27340"/>
            <a:stretch/>
          </p:blipFill>
          <p:spPr>
            <a:xfrm>
              <a:off x="914400" y="4854600"/>
              <a:ext cx="2697120" cy="122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"/>
            <p:cNvGrpSpPr/>
            <p:nvPr/>
          </p:nvGrpSpPr>
          <p:grpSpPr>
            <a:xfrm>
              <a:off x="1778040" y="5025960"/>
              <a:ext cx="792000" cy="792360"/>
              <a:chOff x="1778040" y="5025960"/>
              <a:chExt cx="792000" cy="79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1778040" y="5025960"/>
                <a:ext cx="792000" cy="792360"/>
              </a:xfrm>
              <a:prstGeom prst="ellipse">
                <a:avLst/>
              </a:prstGeom>
              <a:noFill/>
              <a:ln w="60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65160" y="5170320"/>
                <a:ext cx="633600" cy="50328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8000" y="5113440"/>
                <a:ext cx="533520" cy="6048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2195640" y="2565360"/>
            <a:ext cx="1931400" cy="1237680"/>
            <a:chOff x="2195640" y="2565360"/>
            <a:chExt cx="1931400" cy="1237680"/>
          </a:xfrm>
        </p:grpSpPr>
        <p:grpSp>
          <p:nvGrpSpPr>
            <p:cNvPr id="411" name=""/>
            <p:cNvGrpSpPr/>
            <p:nvPr/>
          </p:nvGrpSpPr>
          <p:grpSpPr>
            <a:xfrm>
              <a:off x="2195640" y="2565360"/>
              <a:ext cx="1931400" cy="1237680"/>
              <a:chOff x="2195640" y="2565360"/>
              <a:chExt cx="1931400" cy="1237680"/>
            </a:xfrm>
          </p:grpSpPr>
          <p:sp>
            <p:nvSpPr>
              <p:cNvPr id="412" name=""/>
              <p:cNvSpPr/>
              <p:nvPr/>
            </p:nvSpPr>
            <p:spPr>
              <a:xfrm>
                <a:off x="2195640" y="2801880"/>
                <a:ext cx="1865520" cy="100116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213280" y="2729880"/>
                <a:ext cx="1865520" cy="100080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31280" y="2655360"/>
                <a:ext cx="1865520" cy="100116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61520" y="2565360"/>
                <a:ext cx="1865520" cy="100080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3144600" y="26398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30480" y="27986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5920" y="27115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71800" y="28702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14560" y="294156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00080" y="31003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55880" y="30128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1400" y="317160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1320" y="32446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27200" y="34034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82640" y="33163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68520" y="34750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893880" y="4683240"/>
            <a:ext cx="4182840" cy="1482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2262240"/>
            <a:ext cx="5543640" cy="23191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5724360" y="4653000"/>
            <a:ext cx="2160720" cy="1081080"/>
          </a:xfrm>
          <a:custGeom>
            <a:avLst/>
            <a:gdLst/>
            <a:ahLst/>
            <a:rect l="l" t="t" r="r" b="b"/>
            <a:pathLst>
              <a:path w="1361" h="908">
                <a:moveTo>
                  <a:pt x="0" y="0"/>
                </a:moveTo>
                <a:lnTo>
                  <a:pt x="0" y="908"/>
                </a:lnTo>
                <a:lnTo>
                  <a:pt x="1361" y="908"/>
                </a:lnTo>
                <a:lnTo>
                  <a:pt x="1361" y="182"/>
                </a:lnTo>
              </a:path>
            </a:pathLst>
          </a:custGeom>
          <a:noFill/>
          <a:ln w="13644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227640" y="5189400"/>
            <a:ext cx="1166760" cy="1118880"/>
            <a:chOff x="6227640" y="5189400"/>
            <a:chExt cx="1166760" cy="1118880"/>
          </a:xfrm>
        </p:grpSpPr>
        <p:pic>
          <p:nvPicPr>
            <p:cNvPr id="432" name="" descr=""/>
            <p:cNvPicPr/>
            <p:nvPr/>
          </p:nvPicPr>
          <p:blipFill>
            <a:blip r:embed="rId12"/>
            <a:stretch/>
          </p:blipFill>
          <p:spPr>
            <a:xfrm>
              <a:off x="6227640" y="5189400"/>
              <a:ext cx="1166760" cy="11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395760" y="5499720"/>
              <a:ext cx="84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Digima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Read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42920" y="42782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1042920" y="3341520"/>
            <a:ext cx="7850160" cy="7797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1042920" y="24051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1042920" y="14842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4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44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16938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lassic design associating analogue with cutting-edge digital technolog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87280" y="24940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Text recognition functio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English, Korean, Russian and chines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ake out only texts from scanned docs and PDF fil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1042920" y="521352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0960" y="1500120"/>
            <a:ext cx="831960" cy="747720"/>
            <a:chOff x="210960" y="1500120"/>
            <a:chExt cx="831960" cy="747720"/>
          </a:xfrm>
        </p:grpSpPr>
        <p:pic>
          <p:nvPicPr>
            <p:cNvPr id="455" name="" descr=""/>
            <p:cNvPicPr/>
            <p:nvPr/>
          </p:nvPicPr>
          <p:blipFill>
            <a:blip r:embed="rId6"/>
            <a:stretch/>
          </p:blipFill>
          <p:spPr>
            <a:xfrm>
              <a:off x="210960" y="15001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4920" y="16509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17440" y="2448000"/>
            <a:ext cx="785520" cy="708120"/>
            <a:chOff x="217440" y="2448000"/>
            <a:chExt cx="785520" cy="708120"/>
          </a:xfrm>
        </p:grpSpPr>
        <p:pic>
          <p:nvPicPr>
            <p:cNvPr id="458" name="" descr=""/>
            <p:cNvPicPr/>
            <p:nvPr/>
          </p:nvPicPr>
          <p:blipFill>
            <a:blip r:embed="rId7"/>
            <a:stretch/>
          </p:blipFill>
          <p:spPr>
            <a:xfrm>
              <a:off x="217440" y="2448000"/>
              <a:ext cx="78552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96360" y="2590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10960" y="3363840"/>
            <a:ext cx="792000" cy="712440"/>
            <a:chOff x="210960" y="3363840"/>
            <a:chExt cx="792000" cy="712440"/>
          </a:xfrm>
        </p:grpSpPr>
        <p:pic>
          <p:nvPicPr>
            <p:cNvPr id="461" name="" descr=""/>
            <p:cNvPicPr/>
            <p:nvPr/>
          </p:nvPicPr>
          <p:blipFill>
            <a:blip r:embed="rId8"/>
            <a:stretch/>
          </p:blipFill>
          <p:spPr>
            <a:xfrm>
              <a:off x="210960" y="3363840"/>
              <a:ext cx="7920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6648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36520" y="4336920"/>
            <a:ext cx="720720" cy="647640"/>
            <a:chOff x="236520" y="4336920"/>
            <a:chExt cx="720720" cy="647640"/>
          </a:xfrm>
        </p:grpSpPr>
        <p:pic>
          <p:nvPicPr>
            <p:cNvPr id="464" name="" descr=""/>
            <p:cNvPicPr/>
            <p:nvPr/>
          </p:nvPicPr>
          <p:blipFill>
            <a:blip r:embed="rId9"/>
            <a:stretch/>
          </p:blipFill>
          <p:spPr>
            <a:xfrm>
              <a:off x="236520" y="433692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358560" y="44384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22120" y="5245200"/>
            <a:ext cx="720720" cy="647640"/>
            <a:chOff x="222120" y="5245200"/>
            <a:chExt cx="720720" cy="647640"/>
          </a:xfrm>
        </p:grpSpPr>
        <p:pic>
          <p:nvPicPr>
            <p:cNvPr id="467" name="" descr=""/>
            <p:cNvPicPr/>
            <p:nvPr/>
          </p:nvPicPr>
          <p:blipFill>
            <a:blip r:embed="rId10"/>
            <a:stretch/>
          </p:blipFill>
          <p:spPr>
            <a:xfrm>
              <a:off x="222120" y="524520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336600" y="5344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171440" y="4290840"/>
            <a:ext cx="60501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gimax Master S/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Make Movie album and movie file for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1173240" y="3416400"/>
            <a:ext cx="75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Various effect : Highlight, composition shot, Photo frame, movie editing, take out still image from movie and  so 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1158840" y="5445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Voice recorder (Max 1 hour), Voice memo (Max 10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473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11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Compared to…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7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8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48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68360" y="1484280"/>
          <a:ext cx="8280360" cy="480708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6 Feb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5 Oc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IK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6 Oc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max L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olpix-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Z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8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3.6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3.5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PEG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230K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115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110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ac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0.5x60.5x2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4x57x3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1x60x3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pe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084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490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6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Q &amp; A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97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00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>
            <a:off x="825480" y="966960"/>
            <a:ext cx="7850160" cy="1382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What is difference between HDMI and USB, DVI, A/V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1) HDMI supports Audio and vide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2) HDMI transfers raw digital data without compression : High Qualit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3) High compatibility with other digital devices(TV, Set-top box, DV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>
            <a:off x="825480" y="2631960"/>
            <a:ext cx="7850160" cy="144468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shots and movie recording with one charge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1) Still image : 150minute / 300 shot (Internal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2) Movie    : Depend on Memory card s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825480" y="4508640"/>
            <a:ext cx="7850160" cy="1512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basic spec of N5 barrel which is adopted to L85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1) 5x Optical ZOOM Len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2) Aperture Wide: 2.8, Tele: 4.4 Focal length 38-192mm (in 35mm forma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3) Shutter speed 15s~1/2000s in Auto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765000"/>
            <a:ext cx="1547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459160"/>
            <a:ext cx="1547640" cy="576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292640"/>
            <a:ext cx="1547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57240" y="57240"/>
            <a:ext cx="468360" cy="420480"/>
          </a:xfrm>
          <a:prstGeom prst="rect">
            <a:avLst/>
          </a:prstGeom>
          <a:ln w="0">
            <a:noFill/>
          </a:ln>
        </p:spPr>
      </p:pic>
      <p:grpSp>
        <p:nvGrpSpPr>
          <p:cNvPr id="510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511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6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7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3889440" y="5046840"/>
            <a:ext cx="71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06 </a:t>
            </a:r>
            <a:r>
              <a:rPr b="1" lang="zh-CN" sz="2800" spc="-1" strike="noStrike">
                <a:solidFill>
                  <a:srgbClr val="336699"/>
                </a:solidFill>
                <a:latin typeface="굴림"/>
              </a:rPr>
              <a:t>상반기 출시기종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000" y="58680"/>
            <a:ext cx="471600" cy="42408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5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1233360"/>
            <a:ext cx="914400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906480"/>
            <a:ext cx="406728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195912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first HDM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240660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ie and motion pic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85264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quality 2.5” LC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328464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ual and wide mod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3068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te control and tex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5041800"/>
            <a:ext cx="406728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d to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562720"/>
            <a:ext cx="406728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1280" y="2205000"/>
            <a:ext cx="2376360" cy="13921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-6480" y="1125360"/>
            <a:ext cx="4362120" cy="844200"/>
            <a:chOff x="-6480" y="1125360"/>
            <a:chExt cx="4362120" cy="844200"/>
          </a:xfrm>
        </p:grpSpPr>
        <p:sp>
          <p:nvSpPr>
            <p:cNvPr id="70" name=""/>
            <p:cNvSpPr/>
            <p:nvPr/>
          </p:nvSpPr>
          <p:spPr>
            <a:xfrm>
              <a:off x="-6480" y="1125360"/>
              <a:ext cx="4362120" cy="81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240" y="1235520"/>
              <a:ext cx="41288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굴림"/>
                </a:rPr>
                <a:t>Digimax L85 (8M, 5X)</a:t>
              </a:r>
              <a:endParaRPr b="0" lang="en-US" sz="2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2340000" y="3860640"/>
            <a:ext cx="2449440" cy="149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76720" y="1427040"/>
            <a:ext cx="406728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17816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461016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149720"/>
            <a:ext cx="8424720" cy="18003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Product Concep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8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8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9640" y="441972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437364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want something different with conventional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425600"/>
            <a:ext cx="8424720" cy="18003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Idea of product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480" y="3471840"/>
            <a:ext cx="3779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For whom L85 is produced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484992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want to enjoy high quality image on digital HD TV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338800"/>
            <a:ext cx="77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prefer design of analogue cameras and who are fed up with same digital desig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9640" y="49006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39640" y="53848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39640" y="174132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69560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rgeting High-end Compact DSC mark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21718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rgeting customers’ needs on High mega-pixels and high image quality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6607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sting SAMSUNG DSC’s brand image with premium mode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39640" y="2222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539640" y="270684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8760" y="2867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t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10960" y="936720"/>
            <a:ext cx="831960" cy="747720"/>
            <a:chOff x="210960" y="936720"/>
            <a:chExt cx="831960" cy="747720"/>
          </a:xfrm>
        </p:grpSpPr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10960" y="936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4920" y="108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440" y="1889280"/>
            <a:ext cx="785520" cy="707760"/>
            <a:chOff x="217440" y="1889280"/>
            <a:chExt cx="785520" cy="707760"/>
          </a:xfrm>
        </p:grpSpPr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217440" y="1889280"/>
              <a:ext cx="7855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96360" y="2031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0960" y="2876400"/>
            <a:ext cx="792000" cy="712440"/>
            <a:chOff x="210960" y="2876400"/>
            <a:chExt cx="792000" cy="712440"/>
          </a:xfrm>
        </p:grpSpPr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210960" y="2876400"/>
              <a:ext cx="7920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66480" y="3012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42920" y="9208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817640"/>
            <a:ext cx="7850160" cy="963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81960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7991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520" y="3878280"/>
            <a:ext cx="720720" cy="647640"/>
            <a:chOff x="236520" y="3878280"/>
            <a:chExt cx="720720" cy="647640"/>
          </a:xfrm>
        </p:grpSpPr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236520" y="387828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8560" y="3979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2120" y="4830840"/>
            <a:ext cx="720720" cy="647640"/>
            <a:chOff x="222120" y="4830840"/>
            <a:chExt cx="720720" cy="647640"/>
          </a:xfrm>
        </p:grpSpPr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22120" y="483084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36600" y="4930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4440" y="765000"/>
            <a:ext cx="7604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We incorparated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HDMI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connection in DSC (World first).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HDMI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nables you to enjoy high quality image on Digital TV (LCD, PDP, HD TV and so on)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111320" y="4898880"/>
            <a:ext cx="76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Useful remote control and text recognition mode gives more versatility and convenience to photographer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157400" y="3833640"/>
            <a:ext cx="766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L85 has full manual function and 16:8 wide mode so that you can enjoy 16:9 images as well as conventional 4:3 imag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199548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x Optical zoom and 2.5” LCD(23k pixels) give you satisfaction of Photograph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881440"/>
            <a:ext cx="7604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85 supplies advanced movie recording and motioin capure fucn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lso bundle s/w can make movie album and movie clip for L85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27000" y="1449360"/>
            <a:ext cx="782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Enjoy higj quality images through Digital TV and multi-media devices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gh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finition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ultimedia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terfac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42920" y="4287960"/>
            <a:ext cx="4392720" cy="1865160"/>
            <a:chOff x="1042920" y="4287960"/>
            <a:chExt cx="4392720" cy="186516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042920" y="4287960"/>
              <a:ext cx="28083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51280" y="471348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굴림"/>
                </a:rPr>
                <a:t>HDMI connec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4360" y="4495680"/>
              <a:ext cx="431640" cy="217800"/>
            </a:xfrm>
            <a:prstGeom prst="leftArrow">
              <a:avLst>
                <a:gd name="adj1" fmla="val 50000"/>
                <a:gd name="adj2" fmla="val 49545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71640" y="369252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HDMI connection enables to deliver more image data than av cab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87280" y="2349360"/>
            <a:ext cx="6899400" cy="1544400"/>
            <a:chOff x="1187280" y="2349360"/>
            <a:chExt cx="6899400" cy="1544400"/>
          </a:xfrm>
        </p:grpSpPr>
        <p:sp>
          <p:nvSpPr>
            <p:cNvPr id="149" name=""/>
            <p:cNvSpPr/>
            <p:nvPr/>
          </p:nvSpPr>
          <p:spPr>
            <a:xfrm>
              <a:off x="2124000" y="3070080"/>
              <a:ext cx="1511280" cy="563760"/>
            </a:xfrm>
            <a:custGeom>
              <a:avLst/>
              <a:gdLst/>
              <a:ahLst/>
              <a:rect l="l" t="t" r="r" b="b"/>
              <a:pathLst>
                <a:path w="952" h="355">
                  <a:moveTo>
                    <a:pt x="0" y="355"/>
                  </a:moveTo>
                  <a:cubicBezTo>
                    <a:pt x="215" y="215"/>
                    <a:pt x="430" y="76"/>
                    <a:pt x="589" y="38"/>
                  </a:cubicBezTo>
                  <a:cubicBezTo>
                    <a:pt x="748" y="0"/>
                    <a:pt x="892" y="114"/>
                    <a:pt x="952" y="129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187280" y="2819160"/>
              <a:ext cx="1727280" cy="987480"/>
              <a:chOff x="1187280" y="2819160"/>
              <a:chExt cx="1727280" cy="9874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819160"/>
                <a:ext cx="172728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3078000"/>
                <a:ext cx="792360" cy="591840"/>
              </a:xfrm>
              <a:prstGeom prst="rect">
                <a:avLst/>
              </a:prstGeom>
              <a:ln w="9360">
                <a:solidFill>
                  <a:srgbClr val="333333"/>
                </a:solidFill>
                <a:miter/>
              </a:ln>
            </p:spPr>
          </p:pic>
        </p:grpSp>
        <p:grpSp>
          <p:nvGrpSpPr>
            <p:cNvPr id="153" name=""/>
            <p:cNvGrpSpPr/>
            <p:nvPr/>
          </p:nvGrpSpPr>
          <p:grpSpPr>
            <a:xfrm>
              <a:off x="5494320" y="2349360"/>
              <a:ext cx="2592360" cy="1544400"/>
              <a:chOff x="5494320" y="2349360"/>
              <a:chExt cx="2592360" cy="15444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4320" y="2349360"/>
                <a:ext cx="2592360" cy="15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96080" y="2491920"/>
                <a:ext cx="1814400" cy="1036800"/>
              </a:xfrm>
              <a:prstGeom prst="rect">
                <a:avLst/>
              </a:prstGeom>
              <a:ln w="9360">
                <a:solidFill>
                  <a:srgbClr val="333333"/>
                </a:solidFill>
                <a:miter/>
              </a:ln>
            </p:spPr>
          </p:pic>
        </p:grpSp>
        <p:grpSp>
          <p:nvGrpSpPr>
            <p:cNvPr id="156" name=""/>
            <p:cNvGrpSpPr/>
            <p:nvPr/>
          </p:nvGrpSpPr>
          <p:grpSpPr>
            <a:xfrm>
              <a:off x="3635280" y="2479680"/>
              <a:ext cx="1543680" cy="1309680"/>
              <a:chOff x="3635280" y="2479680"/>
              <a:chExt cx="1543680" cy="1309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635280" y="2708280"/>
                <a:ext cx="1079640" cy="10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7"/>
              <a:srcRect l="12418" t="0" r="0" b="0"/>
              <a:stretch/>
            </p:blipFill>
            <p:spPr>
              <a:xfrm>
                <a:off x="3765600" y="2867040"/>
                <a:ext cx="10080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490640" y="2479680"/>
                <a:ext cx="68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굴림"/>
                  </a:rPr>
                  <a:t>HDMI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굴림"/>
                  </a:rPr>
                  <a:t>c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0800000">
              <a:off x="4643280" y="3357360"/>
              <a:ext cx="936720" cy="216000"/>
            </a:xfrm>
            <a:custGeom>
              <a:avLst/>
              <a:gdLst/>
              <a:ahLst/>
              <a:rect l="l" t="t" r="r" b="b"/>
              <a:pathLst>
                <a:path w="952" h="355">
                  <a:moveTo>
                    <a:pt x="0" y="355"/>
                  </a:moveTo>
                  <a:cubicBezTo>
                    <a:pt x="215" y="215"/>
                    <a:pt x="430" y="76"/>
                    <a:pt x="589" y="38"/>
                  </a:cubicBezTo>
                  <a:cubicBezTo>
                    <a:pt x="748" y="0"/>
                    <a:pt x="892" y="114"/>
                    <a:pt x="952" y="129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51280" y="4273560"/>
            <a:ext cx="4465800" cy="1892160"/>
            <a:chOff x="3851280" y="4273560"/>
            <a:chExt cx="4465800" cy="1892160"/>
          </a:xfrm>
        </p:grpSpPr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5508720" y="4273560"/>
              <a:ext cx="280836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flipH="1">
              <a:off x="4931640" y="5703840"/>
              <a:ext cx="431640" cy="217440"/>
            </a:xfrm>
            <a:prstGeom prst="leftArrow">
              <a:avLst>
                <a:gd name="adj1" fmla="val 50000"/>
                <a:gd name="adj2" fmla="val 4962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1280" y="54147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굴림"/>
                </a:rPr>
                <a:t>Analogue connection        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HDMI conne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06600" y="16365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52320" y="3878280"/>
            <a:ext cx="28764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7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240" y="7632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HY울릉도L"/>
              </a:rPr>
              <a:t>HDM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36560"/>
            <a:ext cx="89647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HDMI (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igh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efinition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ultimedia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nterface)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he very first Multimedia interface that can transfer full digital Audio/Video without compressi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HDMI connection gives interface that transfers Audio/Video source among set top box, DVD player, monitor, digital TV and other digital device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HDMI supplies advanced high definition Video and Multi Channel Audio in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ingle Cable Also it can transfer all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TSC HDTV and compatible with 8ch digital Audio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7700" t="20011" r="9225" b="16565"/>
          <a:stretch/>
        </p:blipFill>
        <p:spPr>
          <a:xfrm>
            <a:off x="8317080" y="6554880"/>
            <a:ext cx="739440" cy="25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26752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7532" t="10643" r="9150" b="10643"/>
          <a:stretch/>
        </p:blipFill>
        <p:spPr>
          <a:xfrm>
            <a:off x="4859280" y="5157720"/>
            <a:ext cx="1006560" cy="639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81480" y="5838840"/>
            <a:ext cx="100836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굴림"/>
              </a:rPr>
              <a:t>L8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4581360"/>
            <a:ext cx="1727280" cy="79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4149360"/>
            <a:ext cx="719280" cy="43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4149720"/>
            <a:ext cx="21600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736800" y="5178600"/>
            <a:ext cx="433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767040" y="5407200"/>
            <a:ext cx="1079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4610160"/>
            <a:ext cx="1079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5013360"/>
            <a:ext cx="57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869000"/>
            <a:ext cx="287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119400" y="4818240"/>
            <a:ext cx="18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230560" y="4869000"/>
            <a:ext cx="183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HDMI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0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0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Advanced movi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rcRect l="0" t="36336" r="49180" b="29792"/>
          <a:stretch/>
        </p:blipFill>
        <p:spPr>
          <a:xfrm>
            <a:off x="7093080" y="311292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rcRect l="0" t="11452" r="49180" b="64467"/>
          <a:stretch/>
        </p:blipFill>
        <p:spPr>
          <a:xfrm>
            <a:off x="5076720" y="3112920"/>
            <a:ext cx="1800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5076720" y="1427040"/>
            <a:ext cx="1754280" cy="1440000"/>
            <a:chOff x="5076720" y="1427040"/>
            <a:chExt cx="1754280" cy="1440000"/>
          </a:xfrm>
        </p:grpSpPr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507672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rcRect l="18474" t="56710" r="8957" b="11805"/>
            <a:stretch/>
          </p:blipFill>
          <p:spPr>
            <a:xfrm>
              <a:off x="509940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rcRect l="18474" t="56710" r="8957" b="11805"/>
            <a:stretch/>
          </p:blipFill>
          <p:spPr>
            <a:xfrm>
              <a:off x="551628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5060880" y="142560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5707080" y="1927080"/>
            <a:ext cx="577800" cy="433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539640" y="15573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55720" y="1428840"/>
            <a:ext cx="4076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PEG-4, VGA size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High copression rate : MPEG-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Bigger size : VGA siz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Clear movie :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097760" y="1427040"/>
            <a:ext cx="1754280" cy="1440000"/>
            <a:chOff x="7097760" y="1427040"/>
            <a:chExt cx="1754280" cy="1440000"/>
          </a:xfrm>
        </p:grpSpPr>
        <p:pic>
          <p:nvPicPr>
            <p:cNvPr id="219" name="" descr=""/>
            <p:cNvPicPr/>
            <p:nvPr/>
          </p:nvPicPr>
          <p:blipFill>
            <a:blip r:embed="rId13"/>
            <a:stretch/>
          </p:blipFill>
          <p:spPr>
            <a:xfrm>
              <a:off x="709776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4"/>
            <a:srcRect l="18474" t="56710" r="8957" b="11805"/>
            <a:stretch/>
          </p:blipFill>
          <p:spPr>
            <a:xfrm>
              <a:off x="712044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5"/>
            <a:srcRect l="18474" t="56710" r="8957" b="11805"/>
            <a:stretch/>
          </p:blipFill>
          <p:spPr>
            <a:xfrm>
              <a:off x="753732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7079040" y="1425600"/>
            <a:ext cx="566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369200" y="17208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"/>
          <a:stretch/>
        </p:blipFill>
        <p:spPr>
          <a:xfrm>
            <a:off x="539640" y="314640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41320" y="300672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5x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optical zoom whil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asy to emphasize 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539640" y="458640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41320" y="4551480"/>
            <a:ext cx="44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ovie stabiliz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hkae reduction whil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ovi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9"/>
          <a:srcRect l="55544" t="14395" r="6202" b="66140"/>
          <a:stretch/>
        </p:blipFill>
        <p:spPr>
          <a:xfrm>
            <a:off x="7020000" y="4581360"/>
            <a:ext cx="1807920" cy="1498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rcRect l="4927" t="11887" r="56820" b="66076"/>
          <a:stretch/>
        </p:blipFill>
        <p:spPr>
          <a:xfrm>
            <a:off x="5019840" y="4378320"/>
            <a:ext cx="1871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35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38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26920" y="1413000"/>
            <a:ext cx="60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lta high-speed continuous sh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84360" y="2143080"/>
            <a:ext cx="2817720" cy="3517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3565440" y="3645000"/>
            <a:ext cx="4824360" cy="2008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3564000" y="2093760"/>
            <a:ext cx="4897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5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5” LCD (230k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55720" y="1428840"/>
            <a:ext cx="4076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ig colour TFT LC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ig 2.5” LC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30k pixels delivers more detai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14560" y="3483000"/>
            <a:ext cx="2447280" cy="1746000"/>
            <a:chOff x="1114560" y="3483000"/>
            <a:chExt cx="2447280" cy="1746000"/>
          </a:xfrm>
        </p:grpSpPr>
        <p:pic>
          <p:nvPicPr>
            <p:cNvPr id="264" name="" descr=""/>
            <p:cNvPicPr/>
            <p:nvPr/>
          </p:nvPicPr>
          <p:blipFill>
            <a:blip r:embed="rId7"/>
            <a:stretch/>
          </p:blipFill>
          <p:spPr>
            <a:xfrm>
              <a:off x="1114560" y="3483000"/>
              <a:ext cx="2447280" cy="17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flipV="1">
              <a:off x="1161720" y="3537720"/>
              <a:ext cx="2319480" cy="16243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20200" y="4194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5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796000" y="3198960"/>
            <a:ext cx="2232000" cy="57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kon Coolpix P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” (110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5796000" y="5603760"/>
            <a:ext cx="2232000" cy="576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on S8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” (115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IMG_5752.JPG"/>
          <p:cNvPicPr/>
          <p:nvPr/>
        </p:nvPicPr>
        <p:blipFill>
          <a:blip r:embed="rId8"/>
          <a:stretch/>
        </p:blipFill>
        <p:spPr>
          <a:xfrm>
            <a:off x="5651640" y="1581120"/>
            <a:ext cx="2449440" cy="1528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2398680" y="3816360"/>
            <a:ext cx="5875200" cy="1676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826920" y="2924280"/>
            <a:ext cx="44643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6:27:05Z</dcterms:created>
  <dc:creator>020025</dc:creator>
  <dc:description/>
  <dc:language>en-US</dc:language>
  <cp:lastModifiedBy>L040079</cp:lastModifiedBy>
  <dcterms:modified xsi:type="dcterms:W3CDTF">2006-01-26T09:39:28Z</dcterms:modified>
  <cp:revision>63</cp:revision>
  <dc:subject/>
  <dc:title>슬라이드 1</dc:title>
</cp:coreProperties>
</file>