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55B-F71E-4650-910C-ADD21E2D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EDB-A834-4296-908F-BC5365DF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513-B7EB-40F7-A4A8-766640A7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38D-807D-4371-86DF-961A703A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90B-63F8-49C0-851D-50CA0BED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8EF-D55E-4A6A-B808-2C01091F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009-3CED-4380-9A13-B694EB73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88B-5654-435E-BD49-8DA60B61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30B-5D81-49A3-86EF-818DFB91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785-4E07-4B99-A5C0-619FD9A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57D1-8498-4B5A-9DA4-0EB077D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5C5-D9C4-42A7-98E2-29B1257B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886F-8A5E-4F59-8FE2-B2B855588D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390840"/>
            <a:ext cx="9150480" cy="34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b8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60440" y="2492280"/>
            <a:ext cx="6448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돋움"/>
              </a:rPr>
              <a:t>SAMSUNG CAMER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7700" t="20011" r="9225" b="16565"/>
          <a:stretch/>
        </p:blipFill>
        <p:spPr>
          <a:xfrm>
            <a:off x="122400" y="117360"/>
            <a:ext cx="1064880" cy="40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13440" y="3451320"/>
            <a:ext cx="252792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HY견고딕"/>
                <a:ea typeface="HY견고딕"/>
              </a:rPr>
              <a:t>Digimax L6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22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25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/>
          <p:cNvSpPr/>
          <p:nvPr/>
        </p:nvSpPr>
        <p:spPr>
          <a:xfrm>
            <a:off x="825480" y="1400040"/>
            <a:ext cx="7850160" cy="16686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:  How many pictures can L60 take with SLB-0837 batte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:  Up to 100Minutes, 200sho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825480" y="3618000"/>
            <a:ext cx="7850160" cy="175572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:  How long can L60 record movie clips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:  VGA 30fps – 2 hours and 4 second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QVGA 15fps – 18 minutes and 11 seconds (in 32MB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343160"/>
            <a:ext cx="1547640" cy="4316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-7920" y="3573360"/>
            <a:ext cx="1547640" cy="432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Digimax L6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8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3889440" y="5132520"/>
            <a:ext cx="71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52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5064120" y="1989000"/>
            <a:ext cx="4067280" cy="432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ompact Desig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70600" y="2529000"/>
            <a:ext cx="4066920" cy="43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table Gripp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68800" y="3059280"/>
            <a:ext cx="4067280" cy="43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onvenient User Interf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64120" y="3573360"/>
            <a:ext cx="4067280" cy="432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Movie and motion pi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67360" y="4103640"/>
            <a:ext cx="4067280" cy="432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Additional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5068800" y="4627440"/>
            <a:ext cx="4067280" cy="432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906480"/>
            <a:ext cx="4572000" cy="45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concep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57720"/>
            <a:ext cx="4572000" cy="459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d to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678640"/>
            <a:ext cx="4572000" cy="45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427040"/>
            <a:ext cx="4572000" cy="459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tal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3046680" cy="2019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71640" y="4005360"/>
            <a:ext cx="304632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1557360"/>
            <a:ext cx="8713800" cy="125244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geting customers’ needs on high image quality and tiny digital camera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mium quality but affordable 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Product Concep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69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72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92120" y="17938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9640" y="419256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4960" y="3819600"/>
            <a:ext cx="8688600" cy="209844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o pursues both design and fun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o wants camera easy to use and access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stly for women who want to take a picture any time anywhe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41440" y="47466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52600" y="530064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836640"/>
            <a:ext cx="3780000" cy="504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dea of product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-6480" y="3162240"/>
            <a:ext cx="3780000" cy="504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r whom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04720" y="232740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8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8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042920" y="92088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wer Movie Clip (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X Optical Zoom,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PEG-4, VGA 30fps &amp; Edi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00196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.4” TFT LCD can deliver more detail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30830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uminum Body in three Colors, Red, Sliver and Bla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057320" y="4235400"/>
            <a:ext cx="7850160" cy="7779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oice Recording (Memory &amp; Battery capacity dependan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oice Memo in Still Image (Max. 10 sec.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53420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 &amp; E Button for Easy Interf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0960" y="936720"/>
            <a:ext cx="831960" cy="860760"/>
            <a:chOff x="210960" y="936720"/>
            <a:chExt cx="831960" cy="86076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10960" y="9367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95280" y="109368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Tal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0960" y="2060640"/>
            <a:ext cx="831960" cy="860760"/>
            <a:chOff x="210960" y="2060640"/>
            <a:chExt cx="831960" cy="86076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210960" y="206064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95280" y="221760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10960" y="3141720"/>
            <a:ext cx="831960" cy="860760"/>
            <a:chOff x="210960" y="3141720"/>
            <a:chExt cx="831960" cy="8607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210960" y="31417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95280" y="329868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0960" y="4292640"/>
            <a:ext cx="831960" cy="860760"/>
            <a:chOff x="210960" y="4292640"/>
            <a:chExt cx="831960" cy="860760"/>
          </a:xfrm>
        </p:grpSpPr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10960" y="429264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95280" y="444960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0960" y="5373720"/>
            <a:ext cx="831960" cy="860760"/>
            <a:chOff x="210960" y="5373720"/>
            <a:chExt cx="831960" cy="86076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210960" y="53737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95280" y="553068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1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1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141300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ompact Design Using </a:t>
            </a:r>
            <a:r>
              <a:rPr b="1" lang="en-US" sz="1600" spc="-1" strike="noStrike">
                <a:solidFill>
                  <a:srgbClr val="333300"/>
                </a:solidFill>
                <a:latin typeface="Trebuchet MS"/>
              </a:rPr>
              <a:t>Aluminum Materi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92080"/>
            <a:ext cx="4572000" cy="449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pact Design &amp; Stable Gri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060640"/>
            <a:ext cx="1613160" cy="15825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618800" y="5743440"/>
            <a:ext cx="735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00"/>
                </a:solidFill>
                <a:uFillTx/>
                <a:latin typeface="Trebuchet MS"/>
              </a:rPr>
              <a:t>20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557760" y="3768840"/>
            <a:ext cx="1872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00"/>
                </a:solidFill>
                <a:uFillTx/>
                <a:latin typeface="Trebuchet MS"/>
              </a:rPr>
              <a:t>Enhanced Gripp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4076640"/>
            <a:ext cx="1685880" cy="1563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6527160" y="5699160"/>
            <a:ext cx="1974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00"/>
                </a:solidFill>
                <a:uFillTx/>
                <a:latin typeface="Trebuchet MS"/>
              </a:rPr>
              <a:t>Special Strap Hold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39640" y="179856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176832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ophisticated Design – Grip Part and Strap Hold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1042920" y="2276640"/>
            <a:ext cx="4608720" cy="329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Points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88000" y="3816000"/>
            <a:ext cx="447480" cy="2602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99160" y="3141720"/>
            <a:ext cx="0" cy="25290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2997360"/>
            <a:ext cx="0" cy="267336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955880"/>
            <a:ext cx="4464000" cy="313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356000" y="3319560"/>
            <a:ext cx="446400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34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37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26920" y="141300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 &amp; E Button for Easy 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05040"/>
            <a:ext cx="4859280" cy="4363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venient User Interf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539640" y="180324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6920" y="1773360"/>
            <a:ext cx="66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-button for Changing Modes and E-button for Choosing Effec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146400" y="2766960"/>
            <a:ext cx="433440" cy="4176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1042920" y="2795760"/>
            <a:ext cx="1944720" cy="143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7178760" y="4422600"/>
            <a:ext cx="433440" cy="4176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4724280"/>
            <a:ext cx="2592720" cy="1441440"/>
          </a:xfrm>
          <a:prstGeom prst="wedgeRoundRectCallout">
            <a:avLst>
              <a:gd name="adj1" fmla="val 25078"/>
              <a:gd name="adj2" fmla="val -159689"/>
              <a:gd name="adj3" fmla="val 16667"/>
            </a:avLst>
          </a:prstGeom>
          <a:solidFill>
            <a:srgbClr val="eaeaea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[Modes]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ovie Cli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ortrai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Night scene/ Slow sync flash for natural image 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5018040" y="4105440"/>
            <a:ext cx="2089080" cy="1566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64000" y="2133720"/>
            <a:ext cx="2664000" cy="1582560"/>
          </a:xfrm>
          <a:prstGeom prst="wedgeRoundRectCallout">
            <a:avLst>
              <a:gd name="adj1" fmla="val 33731"/>
              <a:gd name="adj2" fmla="val 99046"/>
              <a:gd name="adj3" fmla="val 16667"/>
            </a:avLst>
          </a:prstGeom>
          <a:solidFill>
            <a:srgbClr val="eaeaea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[Effects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olor effect (6 typ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Highlight (4 typ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omposition shot (4 typ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hoto Frame (9 typ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Points 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5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5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rcRect l="0" t="36336" r="49180" b="29792"/>
          <a:stretch/>
        </p:blipFill>
        <p:spPr>
          <a:xfrm>
            <a:off x="7093080" y="311292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rcRect l="0" t="11452" r="49180" b="64467"/>
          <a:stretch/>
        </p:blipFill>
        <p:spPr>
          <a:xfrm>
            <a:off x="5076720" y="3112920"/>
            <a:ext cx="1800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5076720" y="1427040"/>
            <a:ext cx="1754280" cy="1440000"/>
            <a:chOff x="5076720" y="1427040"/>
            <a:chExt cx="1754280" cy="144000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5076720" y="1427040"/>
              <a:ext cx="1754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6"/>
            <a:srcRect l="18474" t="56710" r="8957" b="11805"/>
            <a:stretch/>
          </p:blipFill>
          <p:spPr>
            <a:xfrm>
              <a:off x="5099400" y="2234520"/>
              <a:ext cx="12729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7"/>
            <a:srcRect l="18474" t="56710" r="8957" b="11805"/>
            <a:stretch/>
          </p:blipFill>
          <p:spPr>
            <a:xfrm>
              <a:off x="5516280" y="1767240"/>
              <a:ext cx="127332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5060880" y="142560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707080" y="1927080"/>
            <a:ext cx="577800" cy="433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539640" y="1623960"/>
            <a:ext cx="287280" cy="25740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7097760" y="1427040"/>
            <a:ext cx="1754280" cy="1440000"/>
            <a:chOff x="7097760" y="1427040"/>
            <a:chExt cx="1754280" cy="1440000"/>
          </a:xfrm>
        </p:grpSpPr>
        <p:pic>
          <p:nvPicPr>
            <p:cNvPr id="169" name="" descr=""/>
            <p:cNvPicPr/>
            <p:nvPr/>
          </p:nvPicPr>
          <p:blipFill>
            <a:blip r:embed="rId10"/>
            <a:stretch/>
          </p:blipFill>
          <p:spPr>
            <a:xfrm>
              <a:off x="7097760" y="1427040"/>
              <a:ext cx="1754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1"/>
            <a:srcRect l="18474" t="56710" r="8957" b="11805"/>
            <a:stretch/>
          </p:blipFill>
          <p:spPr>
            <a:xfrm>
              <a:off x="7120440" y="2234520"/>
              <a:ext cx="12729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2"/>
            <a:srcRect l="18474" t="56710" r="8957" b="11805"/>
            <a:stretch/>
          </p:blipFill>
          <p:spPr>
            <a:xfrm>
              <a:off x="7537320" y="1767240"/>
              <a:ext cx="127332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7079040" y="1425600"/>
            <a:ext cx="566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G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3"/>
          <a:stretch/>
        </p:blipFill>
        <p:spPr>
          <a:xfrm>
            <a:off x="7369200" y="17208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4"/>
          <a:stretch/>
        </p:blipFill>
        <p:spPr>
          <a:xfrm>
            <a:off x="539640" y="321300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5"/>
          <a:stretch/>
        </p:blipFill>
        <p:spPr>
          <a:xfrm>
            <a:off x="539640" y="4653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6"/>
          <a:srcRect l="55544" t="14395" r="6202" b="66140"/>
          <a:stretch/>
        </p:blipFill>
        <p:spPr>
          <a:xfrm>
            <a:off x="7020000" y="4581360"/>
            <a:ext cx="1807920" cy="1498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7"/>
          <a:srcRect l="4927" t="11887" r="56820" b="66076"/>
          <a:stretch/>
        </p:blipFill>
        <p:spPr>
          <a:xfrm>
            <a:off x="5019840" y="4378320"/>
            <a:ext cx="1871640" cy="1728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865080"/>
            <a:ext cx="3924360" cy="476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dvanced movie cli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Points 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855720" y="1509840"/>
            <a:ext cx="40766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PEG-4, VGA 30fp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High compression rate : MPEG-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Bigger size : VGA siz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ear movie : 30fp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841320" y="3087720"/>
            <a:ext cx="4076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x optical zoom while recor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asy to emphasize obj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841320" y="4556160"/>
            <a:ext cx="4076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ovie stabiliz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hake Reduction while record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84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87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0" y="836640"/>
            <a:ext cx="3780000" cy="43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dditional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48428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o Macro (5cm ~ Infinity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2782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gimax Master softwa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521352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ltiple Languages, Colorful GUI, and m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3341520"/>
            <a:ext cx="7850160" cy="7797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1 kinds of scene mod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Point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0960" y="1413000"/>
            <a:ext cx="831960" cy="747720"/>
            <a:chOff x="210960" y="1413000"/>
            <a:chExt cx="831960" cy="74772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210960" y="141300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95280" y="156996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10960" y="2421000"/>
            <a:ext cx="831960" cy="747720"/>
            <a:chOff x="210960" y="2421000"/>
            <a:chExt cx="831960" cy="74772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10960" y="242100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95280" y="257796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10960" y="3429000"/>
            <a:ext cx="831960" cy="747720"/>
            <a:chOff x="210960" y="3429000"/>
            <a:chExt cx="831960" cy="747720"/>
          </a:xfrm>
        </p:grpSpPr>
        <p:pic>
          <p:nvPicPr>
            <p:cNvPr id="202" name="" descr=""/>
            <p:cNvPicPr/>
            <p:nvPr/>
          </p:nvPicPr>
          <p:blipFill>
            <a:blip r:embed="rId5"/>
            <a:stretch/>
          </p:blipFill>
          <p:spPr>
            <a:xfrm>
              <a:off x="210960" y="342900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95280" y="358596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10960" y="4292640"/>
            <a:ext cx="831960" cy="747720"/>
            <a:chOff x="210960" y="4292640"/>
            <a:chExt cx="831960" cy="747720"/>
          </a:xfrm>
        </p:grpSpPr>
        <p:pic>
          <p:nvPicPr>
            <p:cNvPr id="205" name="" descr=""/>
            <p:cNvPicPr/>
            <p:nvPr/>
          </p:nvPicPr>
          <p:blipFill>
            <a:blip r:embed="rId6"/>
            <a:stretch/>
          </p:blipFill>
          <p:spPr>
            <a:xfrm>
              <a:off x="210960" y="429264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95280" y="444960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10960" y="5229360"/>
            <a:ext cx="831960" cy="747720"/>
            <a:chOff x="210960" y="5229360"/>
            <a:chExt cx="831960" cy="747720"/>
          </a:xfrm>
        </p:grpSpPr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210960" y="522936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95280" y="538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42920" y="242100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hot to shot : 1.0(wide) ~ 1.2(tele) se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inuous shot : 2 fp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12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15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8360" y="1484280"/>
          <a:ext cx="8280360" cy="4484880"/>
        </p:xfrm>
        <a:graphic>
          <a:graphicData uri="http://schemas.openxmlformats.org/drawingml/2006/table">
            <a:tbl>
              <a:tblPr/>
              <a:tblGrid>
                <a:gridCol w="1727280"/>
                <a:gridCol w="2184120"/>
                <a:gridCol w="2184480"/>
                <a:gridCol w="2184480"/>
              </a:tblGrid>
              <a:tr h="46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MS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s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gimax L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-Z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tio 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age Sen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.5”CCD, 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.5”CCD, 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.5”CCD, 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tical 3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rebuchet MS"/>
                        </a:rPr>
                        <a:t>Digital 5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tical 3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gital 4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tical 3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gital 4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vie C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PEG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J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PEG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4”(112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”(84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5”(232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rebuchet MS"/>
                        </a:rPr>
                        <a:t>5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4x52x2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x60x27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x54x19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0" y="907920"/>
            <a:ext cx="3780000" cy="43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60 and competito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Compare to…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6:27:05Z</dcterms:created>
  <dc:creator>020025</dc:creator>
  <dc:description/>
  <dc:language>en-US</dc:language>
  <cp:lastModifiedBy>L040079</cp:lastModifiedBy>
  <dcterms:modified xsi:type="dcterms:W3CDTF">2006-01-27T00:05:06Z</dcterms:modified>
  <cp:revision>76</cp:revision>
  <dc:subject/>
  <dc:title>슬라이드 1</dc:title>
</cp:coreProperties>
</file>